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7BA8-39C5-479D-B4AC-9F21D7692C5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440A-B1A0-46F0-9B72-750DC013DA9F}" type="slidenum">
              <a:rPr b="0" lang="it-IT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6FE2-5A79-4480-99CE-C902C0A2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58294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440" y="5288400"/>
            <a:ext cx="58294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CF5-A21A-4173-B2B5-3FFFF4CF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2720" y="213336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440" y="528840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72720" y="528840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7443-7C88-4207-9ABC-85D23DE7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18766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656440" y="2133360"/>
            <a:ext cx="18766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27080" y="2133360"/>
            <a:ext cx="18766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440" y="5288400"/>
            <a:ext cx="18766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656440" y="5288400"/>
            <a:ext cx="18766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27080" y="5288400"/>
            <a:ext cx="18766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B937-B2D6-4BD5-B57F-8E5C2C31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278C-49A3-4C25-BC42-B6707812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440" y="2133360"/>
            <a:ext cx="582948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6426-0D30-447B-B580-DAF2DCFF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582948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AD97-FBD2-4C69-8231-2ECD2E71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84472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72720" y="2133360"/>
            <a:ext cx="284472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E676-A176-418C-ABF9-5BDDDF92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746F-A0A0-46F0-9D04-E527F6CB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440" y="369720"/>
            <a:ext cx="582948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3C62-857A-48B2-BF7B-9C4BFB5A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72720" y="2133360"/>
            <a:ext cx="284472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528840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F892-D13B-489C-B835-4DEFCFBF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440" y="2133360"/>
            <a:ext cx="582948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AD83-E6DB-4D27-A7B2-5B79CD7D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84472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72720" y="213336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672720" y="528840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F827-6CF3-412B-A5E0-44DE5533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72720" y="213336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440" y="5288400"/>
            <a:ext cx="58294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1BE7-3158-48CD-984A-D4AD4B38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58294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440" y="5288400"/>
            <a:ext cx="58294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070D-D5CC-4B68-8D27-96BD622B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72720" y="213336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440" y="528840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672720" y="528840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5605-E7FC-4A01-828E-080AD8E9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18766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656440" y="2133360"/>
            <a:ext cx="18766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27080" y="2133360"/>
            <a:ext cx="18766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440" y="5288400"/>
            <a:ext cx="18766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656440" y="5288400"/>
            <a:ext cx="18766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4627080" y="5288400"/>
            <a:ext cx="18766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BE6C-3088-4598-AA90-9C27DE94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582948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7A29-4203-4BCA-8180-6E036B63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84472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72720" y="2133360"/>
            <a:ext cx="284472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F2F7-672E-4014-8412-15531ADD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91BA-7E88-4765-83D0-5F34020E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440" y="369720"/>
            <a:ext cx="582948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1BF1-6729-4CD6-9D76-04CC9914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72720" y="2133360"/>
            <a:ext cx="284472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528840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C5C4-6857-42BC-80CE-3A2CBCC7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84472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72720" y="213336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72720" y="528840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BF50-9310-4007-96C3-DECE8E0C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72720" y="213336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5288400"/>
            <a:ext cx="58294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961E-87DD-4163-A981-0D7B556F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6514920" cy="6501960"/>
            <a:chOff x="0" y="0"/>
            <a:chExt cx="6514920" cy="65019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456840" cy="6501960"/>
            </a:xfrm>
            <a:prstGeom prst="rect">
              <a:avLst/>
            </a:prstGeom>
            <a:solidFill>
              <a:srgbClr val="f8b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285480" y="1890000"/>
              <a:ext cx="6229440" cy="242640"/>
              <a:chOff x="285480" y="1890000"/>
              <a:chExt cx="6229440" cy="24264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5143320" y="1890000"/>
                <a:ext cx="1371600" cy="242640"/>
              </a:xfrm>
              <a:prstGeom prst="rect">
                <a:avLst/>
              </a:prstGeom>
              <a:solidFill>
                <a:srgbClr val="ffa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285480" y="1991520"/>
                <a:ext cx="6229440" cy="0"/>
              </a:xfrm>
              <a:prstGeom prst="line">
                <a:avLst/>
              </a:prstGeom>
              <a:ln w="19080">
                <a:solidFill>
                  <a:srgbClr val="104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2133360"/>
            <a:ext cx="582948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aa2d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b53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aa2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8b5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8b5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3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3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8335800"/>
            <a:ext cx="148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514240" y="8331120"/>
            <a:ext cx="2228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086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BE21-29CF-4372-8A74-5EFFA6F3FA74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6502320"/>
            <a:ext cx="457200" cy="0"/>
          </a:xfrm>
          <a:prstGeom prst="line">
            <a:avLst/>
          </a:prstGeom>
          <a:ln w="44280">
            <a:solidFill>
              <a:srgbClr val="104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6571800" cy="7923960"/>
            <a:chOff x="0" y="0"/>
            <a:chExt cx="6571800" cy="792396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314000" cy="6502320"/>
            </a:xfrm>
            <a:prstGeom prst="rect">
              <a:avLst/>
            </a:prstGeom>
            <a:solidFill>
              <a:srgbClr val="f8b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4673520"/>
              <a:ext cx="6571800" cy="3250440"/>
              <a:chOff x="0" y="4673520"/>
              <a:chExt cx="6571800" cy="325044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742680" y="4673520"/>
                <a:ext cx="5829120" cy="3250440"/>
              </a:xfrm>
              <a:prstGeom prst="rect">
                <a:avLst/>
              </a:prstGeom>
              <a:solidFill>
                <a:srgbClr val="104e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778320" y="4978080"/>
                <a:ext cx="5736240" cy="28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6501960"/>
                <a:ext cx="742680" cy="0"/>
              </a:xfrm>
              <a:prstGeom prst="line">
                <a:avLst/>
              </a:prstGeom>
              <a:ln w="50760">
                <a:solidFill>
                  <a:srgbClr val="104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475920" y="711000"/>
              <a:ext cx="6057720" cy="405360"/>
              <a:chOff x="475920" y="711000"/>
              <a:chExt cx="6057720" cy="4053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4704480" y="711000"/>
                <a:ext cx="1828800" cy="405360"/>
              </a:xfrm>
              <a:prstGeom prst="rect">
                <a:avLst/>
              </a:prstGeom>
              <a:solidFill>
                <a:srgbClr val="ffa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475920" y="913680"/>
                <a:ext cx="6057720" cy="0"/>
              </a:xfrm>
              <a:prstGeom prst="line">
                <a:avLst/>
              </a:prstGeom>
              <a:ln w="44280">
                <a:solidFill>
                  <a:srgbClr val="104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440" y="2133360"/>
            <a:ext cx="582948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aa2d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b53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aa2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8b5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8b5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3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3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84360" y="833580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51568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5086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79B9-40D2-4EDF-A6D5-BCDE1DDB7509}" type="slidenum">
              <a:rPr b="0" lang="it-IT" sz="10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1142640"/>
            <a:ext cx="5486400" cy="32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0000"/>
                </a:solidFill>
                <a:latin typeface="Times New Roman"/>
              </a:rPr>
              <a:t>Università del Salento</a:t>
            </a:r>
            <a:br>
              <a:rPr sz="2400"/>
            </a:br>
            <a:r>
              <a:rPr b="1" lang="it-IT" sz="2400" spc="-1" strike="noStrike">
                <a:solidFill>
                  <a:srgbClr val="f8b530"/>
                </a:solidFill>
                <a:latin typeface="Times New Roman"/>
              </a:rPr>
              <a:t>C.d.L. Scienze della Comunicazione</a:t>
            </a:r>
            <a:br>
              <a:rPr sz="2400"/>
            </a:br>
            <a:br>
              <a:rPr sz="2400"/>
            </a:br>
            <a:r>
              <a:rPr b="0" i="1" lang="it-IT" sz="1800" spc="-1" strike="noStrike">
                <a:solidFill>
                  <a:srgbClr val="330000"/>
                </a:solidFill>
                <a:latin typeface="Times New Roman"/>
              </a:rPr>
              <a:t>Insegnamento di</a:t>
            </a:r>
            <a:br>
              <a:rPr sz="2400"/>
            </a:br>
            <a:br>
              <a:rPr sz="2400"/>
            </a:br>
            <a:r>
              <a:rPr b="1" lang="it-IT" sz="2600" spc="-1" strike="noStrike">
                <a:solidFill>
                  <a:srgbClr val="330000"/>
                </a:solidFill>
                <a:latin typeface="Times New Roman"/>
              </a:rPr>
              <a:t>SOCIOLOGIA DELL’AMBIENTE</a:t>
            </a:r>
            <a:br>
              <a:rPr sz="2600"/>
            </a:br>
            <a:r>
              <a:rPr b="1" lang="it-IT" sz="2600" spc="-1" strike="noStrike">
                <a:solidFill>
                  <a:srgbClr val="330000"/>
                </a:solidFill>
                <a:latin typeface="Times New Roman"/>
              </a:rPr>
              <a:t>E DEL TERRITORIO</a:t>
            </a:r>
            <a:br>
              <a:rPr sz="2600"/>
            </a:br>
            <a:br>
              <a:rPr sz="2600"/>
            </a:br>
            <a:r>
              <a:rPr b="1" lang="it-IT" sz="2000" spc="-1" strike="noStrike">
                <a:solidFill>
                  <a:srgbClr val="330000"/>
                </a:solidFill>
                <a:latin typeface="Times New Roman"/>
              </a:rPr>
              <a:t>(8 CFU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38080" y="4952880"/>
            <a:ext cx="56390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0000"/>
                </a:solidFill>
                <a:latin typeface="Times New Roman"/>
              </a:rPr>
              <a:t>Prof. Marco Mancarella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0000"/>
                </a:solidFill>
                <a:latin typeface="Times New Roman"/>
              </a:rPr>
              <a:t>MATERIALE DIDATTICO PER GLI STUDENTI DI </a:t>
            </a:r>
            <a:r>
              <a:rPr b="1" i="1" lang="it-IT" sz="1800" spc="-1" strike="noStrike" u="sng">
                <a:solidFill>
                  <a:srgbClr val="330000"/>
                </a:solidFill>
                <a:uFillTx/>
                <a:latin typeface="Times New Roman"/>
              </a:rPr>
              <a:t>SCIENZE DELLA COMUNICAZIONE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0000"/>
                </a:solidFill>
                <a:latin typeface="Times New Roman"/>
              </a:rPr>
              <a:t>A.A. 2008-2009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0000"/>
                </a:solidFill>
                <a:latin typeface="Times New Roman"/>
              </a:rPr>
              <a:t>(PROGRAMMA DI STUDIO VALIDO SINO ALLA SESSIONE DI ESAMI FEBBRAIO 2010)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8-12-08T18:39:5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