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473950" cy="10972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7473600" cy="109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38560" cy="549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marL="216000" indent="0">
              <a:buNone/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4233960" y="0"/>
            <a:ext cx="3238560" cy="549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93600" y="82224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747360" y="5213520"/>
            <a:ext cx="5978520" cy="4937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10422000"/>
            <a:ext cx="3238560" cy="549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marL="216000" indent="0">
              <a:buNone/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4233960" y="10422000"/>
            <a:ext cx="3238560" cy="549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fld id="{C21EC4F6-A7D5-4613-8828-D5233CA4A3D1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3600" y="822240"/>
            <a:ext cx="5486400" cy="41148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47360" y="5213520"/>
            <a:ext cx="5978520" cy="4937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 b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0AF-0D25-4A0F-BCCC-71AD137D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2FD-A595-4F7B-A017-AE98DF62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0FA-278B-4E02-81CA-A9A7A50F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920-6449-4BA2-A3A4-AAFB052E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446B-9E8C-4AEA-AF47-AFFAD2D1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3D1D-5115-4532-BF1B-0D138225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76EC-06B9-44CF-88A4-B255C29C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CF5A-E262-43A4-B671-B9B587B2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2CFC-B526-4FA3-B62D-99B5F553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BEA1-8BFA-4DE7-8F72-4E603652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A900-B320-456B-85CB-E8F8080D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4B3-1EE4-4C6B-9E38-FB243A1C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A880-D5DC-475F-B97E-EA844FDD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19E5-1599-4612-81F1-13B3C029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9D69-5521-4291-842E-BED18E03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AB63-2B80-4D7D-9E22-F05603CA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2EBB-CE3D-468A-A78F-84144544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C4F-E807-49BC-8098-73DB9F43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224-DFC8-4191-820E-2C64B707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B12-E4B2-41B5-8B2E-927691E9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CBF-B3C7-4229-9D6A-1ECC75F6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755-0CF3-445F-884B-10D830AA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711-86A9-4103-8578-9BD1DD1B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64B-96E2-4DBF-8787-BC668232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9ECD-9F96-445A-BAFE-235603869A24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454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2DA0-7836-4886-83B9-6E0D1C4DB6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2E4B-F57B-4C90-8BEF-3958E1EE6747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30A9-8C86-4808-BEAB-6BFDD001CEB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00000" y="3789000"/>
            <a:ext cx="6408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isi dei dati per le applicazioni sociali e demoscopich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028000" y="333360"/>
            <a:ext cx="641160" cy="736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2132640"/>
            <a:ext cx="51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INFORMATICA PER LA RICERC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OLO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6360" y="6093000"/>
            <a:ext cx="2160360" cy="576000"/>
          </a:xfrm>
          <a:prstGeom prst="horizontalScroll">
            <a:avLst>
              <a:gd name="adj" fmla="val 125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623736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:A: 2008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33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software SP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24000" y="189000"/>
            <a:ext cx="6778800" cy="1081080"/>
          </a:xfrm>
          <a:prstGeom prst="rect">
            <a:avLst/>
          </a:prstGeom>
          <a:noFill/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entury"/>
              </a:rPr>
              <a:t>SOCIOLOGIA DELL’AMBIENTE E DEL TERRITORIO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entury"/>
              </a:rPr>
              <a:t> Scienze politiche e delle Relazioni internazionali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entury"/>
              </a:rPr>
              <a:t>Prof. Marco Mancar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63840" y="1828800"/>
            <a:ext cx="59403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6EB-9B14-4AF6-9AAA-6632948153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57520" y="1828800"/>
            <a:ext cx="55530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A32-CF77-4964-9D87-0D5ACE19D3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32000" y="1716120"/>
            <a:ext cx="61657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65B-7DC7-4698-8792-78BE05FFDB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19000" y="1828800"/>
            <a:ext cx="742824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8E4-AFA4-44CA-BC2C-A95A1DF832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87280" y="1579680"/>
            <a:ext cx="5905800" cy="39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22A-E80B-46EB-9575-6B7CD5D79D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7960" y="1828800"/>
            <a:ext cx="57117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3F6-1179-4079-9871-B79C17E202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04840" y="1828800"/>
            <a:ext cx="68565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23C-8B4F-422A-8EB2-ABEA120561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44480" y="1828800"/>
            <a:ext cx="57787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610-7F6D-4555-8E77-97B293CEAA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22600" y="1828800"/>
            <a:ext cx="562284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C9E-F1E6-4FD0-8C8C-2EF86D730C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28640" y="1828800"/>
            <a:ext cx="58089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CCA-7630-4FB2-81EA-FDF6B95A56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zione all’analisi dei dati co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64360" cy="40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FE2-C3C0-4B9C-886D-AD70404662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66720" y="1828800"/>
            <a:ext cx="593424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123-EB64-40B6-A453-FACC4C4C4D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89200" y="1828800"/>
            <a:ext cx="548964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1E3-765C-4EE7-90B6-19B7F78064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23920" y="1828800"/>
            <a:ext cx="68184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89D-B59E-4A19-9066-AB34325D40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368360" y="1828800"/>
            <a:ext cx="63309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E4E-33CF-4232-80FB-464A93BD71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98680" y="1828800"/>
            <a:ext cx="606888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EAA-CE3B-4803-8463-57D1F01811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SS è un sistema di applicazioni Window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inest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ulsan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Men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barre degli strumen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Barra di sta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inesre di dialo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568-FED7-489E-B9B3-522E358FA6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ttura di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ditor dei d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e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ditor della sintas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ditor degli scri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ditor di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belle piv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i grafic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ll’output testuale (bozz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2205000"/>
            <a:ext cx="2519280" cy="358920"/>
          </a:xfrm>
          <a:custGeom>
            <a:avLst/>
            <a:gdLst>
              <a:gd name="textAreaLeft" fmla="*/ 440640 w 2519280"/>
              <a:gd name="textAreaRight" fmla="*/ 1826640 w 251928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E15-F8D6-497F-BBE5-ED49741639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Tipi di files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ditor dei da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iew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ditor della sintas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ditor degli scri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ery SP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tri di siste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72360" y="1844640"/>
            <a:ext cx="200952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.sa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.s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.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.sb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.sp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916280"/>
            <a:ext cx="1224000" cy="28872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421000"/>
            <a:ext cx="1224000" cy="28872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924280"/>
            <a:ext cx="1224000" cy="28872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3357720"/>
            <a:ext cx="1224000" cy="28872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3860640"/>
            <a:ext cx="1224000" cy="28908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CD1-F2F9-4F4B-B14B-AD4247795F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ema concettuale dell’analisi dei dati con SP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erire o accedere ai dati in SP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zionare una procedu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zionare le variabili per l’anali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eguire la procedura e verificarne i risulta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2A1-946D-4E0B-8E8E-783EBF9AD9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e ottenere aiuto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rgomenti: guida on-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rcita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nuale on-line di sintas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alisi guidate (Coac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uida all’interpretazione dei risult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iuto contestuale (tasto dx del mous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F69-810B-48C2-B753-F8499C3179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ASI DI DAI IN SP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9F0-7A05-4239-BA8C-4E977C568B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 DI DATI IN SP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078680" cy="406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to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DDC-C2F6-4BED-A6EF-6A50FA6E84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3:00:16Z</dcterms:created>
  <dc:creator>LUIGI DI VIGGIANO</dc:creator>
  <dc:description/>
  <dc:language>en-US</dc:language>
  <cp:lastModifiedBy>Luigi Di Viggiano</cp:lastModifiedBy>
  <dcterms:modified xsi:type="dcterms:W3CDTF">2008-11-19T14:55:53Z</dcterms:modified>
  <cp:revision>52</cp:revision>
  <dc:subject/>
  <dc:title>Diapositiva 1</dc:title>
</cp:coreProperties>
</file>