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a434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0108-47B3-44CB-9367-820046559F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760-BC67-4C93-A9A8-CAD022F88E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AB3-DFBC-4BAF-B47C-70FC90B9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C66-F88D-46D0-8F6E-F5841BA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F70-5C2C-4B54-8809-FA763BE7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58C-2169-4B70-BCBE-16282647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F47E-E304-473A-9D93-102F0C92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5F73-AE0B-4672-832A-6EB148F3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5C4F-0E95-4519-A490-5817517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40A-F62B-4051-8983-96EE61C4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7D1-BCDA-4C0C-AF9F-FB0C167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59C8-2BB8-43B0-A185-70E1F3B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464-C30B-4F76-A067-3BEEFF5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3AB-6813-4EEB-BF5A-7EB40E5E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540A-5ADD-48B4-B979-E77184B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4B2C-248A-4F67-A25B-FD42619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EF09-7CC2-41DD-AF45-25A25E86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E7A-A004-4BD1-9D4D-57E7D65F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D9FD-36BB-4419-ACF0-7F70D739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66D-4265-4484-A1FB-813440F7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D74-27EB-47B7-A9DF-5BA914B6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485-89F1-4689-B26F-D22CC2ED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E64-0929-4DEE-B0D7-35612F55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1A6-7562-44DC-AC81-93FE638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A02-1FE3-4C33-B93D-FC1DA7C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340-99BA-47C4-87DB-36758C1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a434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8337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4a434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c8c1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F99-814C-43CC-B09E-A565F3150B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fc8c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fc8c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fc8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33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a434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8337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4a434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c8c1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2DB-358D-4C6D-9D10-6CF8B91C3B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4a4340"/>
                </a:solidFill>
                <a:latin typeface="Times New Roman"/>
              </a:rPr>
              <a:t>I DATI TERRITORIALI</a:t>
            </a:r>
            <a:endParaRPr b="0" lang="en-US" sz="54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4876920"/>
            <a:ext cx="4765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cienze Politiche e delle Relazioni 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ciologia dell’Ambiente e del Ter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Prof. M. Manca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16292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A.A. 2008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371600" y="3352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 cura di Gianpasquale Pre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ponente dell’Unità di Ricerca sull’e-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NDIG – Associazione Nazionale Docenti di Informatica Giuri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ituto di Teoria dell’Interpretazione e Informatica Giuri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iversità “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La Sapienz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” - 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istituzione del “Repertorio nazionale dei dati territoriali” (art. 59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al fine di favorire la pubblicità dei dati di interesse gener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 rot="5400000">
            <a:off x="4395600" y="3909960"/>
            <a:ext cx="609840" cy="4096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800" spc="-1" strike="noStrike">
                <a:solidFill>
                  <a:srgbClr val="083372"/>
                </a:solidFill>
                <a:latin typeface="Arial"/>
              </a:rPr>
              <a:t>Istituzione delle “basi di dati di interesse nazionale” (art. 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i banche dati devono essere costituite costituite da informazioni digitali omogenee e utilizzabili dalle PA per i propri fini istitu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5400000">
            <a:off x="4395600" y="3452760"/>
            <a:ext cx="609840" cy="409680"/>
          </a:xfrm>
          <a:prstGeom prst="pie">
            <a:avLst/>
          </a:prstGeom>
          <a:solidFill>
            <a:srgbClr val="ffd8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La Direttiva INSPIR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irettiva INSPIRE istituisce un’infrastruttura per l’informazione territoriale nella Comunità e per progressiva armonizzazione dei dati territoriali esist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3372"/>
                </a:solidFill>
                <a:latin typeface="Arial"/>
              </a:rPr>
              <a:t>Gli Stati memb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urano formalmente la creazione e l’aggiornamento dei metadati per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et di dati territor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e relativi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erviz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3372"/>
                </a:solidFill>
                <a:latin typeface="Arial"/>
              </a:rPr>
              <a:t>La Commiss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definisce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pecifiche armonizz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per i dati territoriali e le modalità per lo scambio, tali che i dati territoriali possano essere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mbin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e i servizi possano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interoper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83372"/>
                </a:solidFill>
                <a:latin typeface="Arial"/>
              </a:rPr>
              <a:t>Stati memb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urano i servizi di trasferimento (upload) per rendere accessibili i metadati, i dati territoriali e i servizi, messi a disposizione delle autorità pubb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l dato territorial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59 del Codice dell’Amministrazione Digit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er dato territoriale si intende qualunque informazione geograficamente localizzat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6 Direttiva INSP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ti territoriali” si intendono i dati che attengono, direttamente o indirettamente, ad una località o un’area geografica specif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Natura del dato territorial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Il “dato territoriale” si compone di due elementi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8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la localizzazione spa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49"/>
              </a:spcBef>
              <a:buClr>
                <a:srgbClr val="8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l’informazione localizzata spazi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otto il profilo giuridico il dato territoriale è caratterizzato dalla c.d. “neutralità” della localizzazione spaz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Peculiarità del dato territorial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dato territoriale può esse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d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natura multifor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n funzione del contenuto delle informazioni che descr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orrispondere sempre alla nozione di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ato pubbl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ai sensi della Direttiva 2003/98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“dato conoscibile da chiunque”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dato è, spesso, a “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conoscibilità limitat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Disciplina differenziata e non standardizzabi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 rot="5400000">
            <a:off x="4118400" y="4263120"/>
            <a:ext cx="838440" cy="388800"/>
          </a:xfrm>
          <a:prstGeom prst="pi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l dato territoriale pubblico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riferimento ai principi di efficienza, efficacia ed economicità delle risorse, La Pubblica Amministrazione deve consentire il riutilizzo, lo sfruttamento, e la fruizione  dei dati (territoriali e non) appartenenti agli enti pubbli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riferimenti normativi in materia so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83372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dice dell’Amministrazione Digit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83372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. Lgs. n. 36/2006 attuativo della Direttiva 2003/98/CE, sul riutilizzo delle informazioni pubbl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83372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. Lgs. n. 195/2005, attuativo della Direttiva 2003/4/CE sulle informazioni ambient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83372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irettiva 2007/2/CE INS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 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83372"/>
                </a:solidFill>
                <a:latin typeface="Arial"/>
              </a:rPr>
              <a:t>Dati delle PA (art. 5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i dati devono ess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resi disponibili e accessibili con l'uso delle tecnologie…. che ne consentano la fruizione e riutilizzazione… da parte delle altre pubbliche amministrazioni e dai priv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83372"/>
                </a:solidFill>
                <a:latin typeface="Arial"/>
              </a:rPr>
              <a:t>	</a:t>
            </a:r>
            <a:r>
              <a:rPr b="0" lang="it-IT" sz="2700" spc="-1" strike="noStrike">
                <a:solidFill>
                  <a:srgbClr val="083372"/>
                </a:solidFill>
                <a:latin typeface="Arial"/>
              </a:rPr>
              <a:t>Accessibilità ad altre PA dei dati (art. 50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alunque dato trattato da una pubblica amministrazione ... è reso accessibile e fruibile alle altre amministrazioni quando l'utilizzazione del dato sia necessaria per lo svolgimento dei compiti istituzionali dell'amministrazione richiedente, senza oneri a carico di quest'ultima, salvo il riconoscimento di eventuali costi ecceziona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83372"/>
                </a:solidFill>
                <a:latin typeface="Arial"/>
              </a:rPr>
              <a:t>Titolarità dati (art. 58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Il trasferimento di un dato da un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informativo ad un altro non modifica la titolarità del da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Il CNIPA predispone schemi generali di convenzioni per favorire la fruibilità informatica dei dati tra PA centrali e tra PA centrali/regioni/enti loca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 rot="5400000">
            <a:off x="4395600" y="4062240"/>
            <a:ext cx="609480" cy="40968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4a4340"/>
                </a:solidFill>
                <a:latin typeface="Arial Black"/>
              </a:rPr>
              <a:t>I dati nel Codice</a:t>
            </a:r>
            <a:endParaRPr b="0" lang="en-US" sz="3300" spc="-1" strike="noStrike">
              <a:solidFill>
                <a:srgbClr val="4a434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83372"/>
                </a:solidFill>
                <a:latin typeface="Arial"/>
              </a:rPr>
              <a:t>Istituzione del “</a:t>
            </a:r>
            <a:r>
              <a:rPr b="1" i="1" lang="it-IT" sz="2800" spc="-1" strike="noStrike">
                <a:solidFill>
                  <a:srgbClr val="990000"/>
                </a:solidFill>
                <a:latin typeface="Arial"/>
              </a:rPr>
              <a:t>Comitato per le regole tecniche sui dati territoriali delle pubbliche amministrazioni</a:t>
            </a:r>
            <a:r>
              <a:rPr b="0" lang="it-IT" sz="2800" spc="-1" strike="noStrike">
                <a:solidFill>
                  <a:srgbClr val="083372"/>
                </a:solidFill>
                <a:latin typeface="Arial"/>
              </a:rPr>
              <a:t>” (art. 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dazione di regole tecniche per le basi dati territoriali, per la fruizione e lo scambio standardizzato di tali 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5400000">
            <a:off x="4319280" y="3757680"/>
            <a:ext cx="609480" cy="409320"/>
          </a:xfrm>
          <a:prstGeom prst="pie">
            <a:avLst/>
          </a:prstGeom>
          <a:solidFill>
            <a:srgbClr val="083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8-12-08T17:54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