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589FE-C48C-47C4-B07F-E26EFAD18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FD5E4-4971-4391-ABBE-B2A552C6D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E2DF2-8CCB-4243-974A-A019A948F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D09F4-1B5B-45B8-851A-7283F9B2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BABEA-3C21-4A2A-B736-7C7AFAE31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D8794-FE8D-4AF3-9CF3-C127D05E3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01BF1-0057-488C-8FB0-909901500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F134-2BDC-4757-8311-73B0B0EB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4240C-3C4F-4EC1-8B7F-E177186D9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E07ED-1396-4944-8446-333CAFC97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2489-6266-461B-8670-946DC7CD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CCB7F-8AE5-4741-80A7-283805FE2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7A5D-A874-47D1-A880-D6268AEA5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ologia dell’ambiente e del territori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ca Caputo – Lecce, 27 novembre 2008</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rso di Laurea in Scienze della Comunicazione A.A. 2008/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ove categorie turistiche</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turis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smo Rur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turis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smo Cultur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smo Term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smo Religio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smo Spor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ttive Turismo</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e Europea: il Turismo attività al centro della Politica Comunita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e Europea: Libro Verde e Ruolo dell’Un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Visione Nuova</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ovi turismi</a:t>
            </a:r>
            <a:r>
              <a:rPr b="0" lang="en-US" sz="2800" spc="-1" strike="noStrike">
                <a:solidFill>
                  <a:srgbClr val="000000"/>
                </a:solidFill>
                <a:latin typeface="Arial"/>
              </a:rPr>
              <a:t> consentono una fruizio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l’ambiente intesa non più riduttivame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contenitore di attività, ma co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orsa da rispettare e tutelare p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ire sopravvivenza flussi turistic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antire benessere popolazione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e “emozionale” del Turista</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ca ciò che abitualmente non trova nel suo ambiente di vi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ca un rapporto di familiarità con luo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a da “aver fatto – esser stato” a “aver compres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omio Turismo - Ambiente</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ttività turistiche sono fortement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relate alla qualità dell’ambien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ia pulit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utture ricettive alternative (masserie, castelli, B&amp;B centro antic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postamenti con mezzi “puliti” (a piedi, bicicletta, cavall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spetto e valorizzazione flora/fauna loc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iente e territorio</a:t>
            </a:r>
            <a:endParaRPr b="0" lang="en-US" sz="3200" spc="-1" strike="noStrike">
              <a:solidFill>
                <a:srgbClr val="000000"/>
              </a:solidFill>
              <a:latin typeface="Arial"/>
            </a:endParaRPr>
          </a:p>
        </p:txBody>
      </p:sp>
      <p:sp>
        <p:nvSpPr>
          <p:cNvPr id="75" name="PlaceHolder 2"/>
          <p:cNvSpPr>
            <a:spLocks noGrp="1"/>
          </p:cNvSpPr>
          <p:nvPr>
            <p:ph/>
          </p:nvPr>
        </p:nvSpPr>
        <p:spPr>
          <a:xfrm>
            <a:off x="395280" y="1599840"/>
            <a:ext cx="8291520" cy="4349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utela ambientale non è mer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zione, quanto piuttosto la capacità</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 rispettare e non alterare i luoghi n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o della loro fruizio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to ciò richiede la massima collaborazio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 local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r oper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ist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ismo Sostenibile</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ARTA DI LANZAR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menti</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Turismo sostenibile deve orientare la su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vità verso:</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esaggio natural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zione e comprensione: turismo “attivo” con finalità educativ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so impatto ambiental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ela e valorizzazione delle risorse ambientali e culturali</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cipazione integrata della popolazione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 </a:t>
            </a:r>
            <a:br>
              <a:rPr sz="2800"/>
            </a:br>
            <a:r>
              <a:rPr b="0" lang="en-US" sz="2800" spc="-1" strike="noStrike">
                <a:solidFill>
                  <a:srgbClr val="000000"/>
                </a:solidFill>
                <a:latin typeface="Arial"/>
              </a:rPr>
              <a:t>I principi etici generali</a:t>
            </a:r>
            <a:endParaRPr b="0" lang="en-US" sz="2800" spc="-1" strike="noStrike">
              <a:solidFill>
                <a:srgbClr val="000000"/>
              </a:solidFill>
              <a:latin typeface="Arial"/>
            </a:endParaRPr>
          </a:p>
        </p:txBody>
      </p:sp>
      <p:sp>
        <p:nvSpPr>
          <p:cNvPr id="81" name="PlaceHolder 2"/>
          <p:cNvSpPr>
            <a:spLocks noGrp="1"/>
          </p:cNvSpPr>
          <p:nvPr>
            <p:ph/>
          </p:nvPr>
        </p:nvSpPr>
        <p:spPr>
          <a:xfrm>
            <a:off x="324000" y="980640"/>
            <a:ext cx="8362800" cy="504036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turismo è un diritto dell'uomo</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 turismo può essere definito come l'insieme dei fenomeni che sono causati dal movimento volontario e temporaneo di singoli individui o di gruppi verso luoghi che non siano la loro abituale residenza a fini di ricreazione e/o di arricchimento culturale. Il turismo rientra pertanto in quel diritto alla mobilità che è riconosciuto a ogni persona dalla Dichiarazione Universale dei Diritti Umani. Sono motivazioni del turismo, parlando in generale, il desiderio di distensione, di comunicare o il bisogno di acquisire nuove conoscenze. I governi sono pertanto tenuti a rispettare tale diritto e a rimuovere ogni restrizione che ne limiti l'applicazione, naturalmente quelle restrizioni che non siano espressione del diritto al mantenimento dell'ordine pubblico. Come ogni istanza di umana libertà, l'uso di tale diritto è soggetto a principi di ordine etic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 </a:t>
            </a:r>
            <a:br>
              <a:rPr sz="2800"/>
            </a:br>
            <a:r>
              <a:rPr b="0" lang="en-US" sz="2800" spc="-1" strike="noStrike">
                <a:solidFill>
                  <a:srgbClr val="000000"/>
                </a:solidFill>
                <a:latin typeface="Arial"/>
              </a:rPr>
              <a:t>I principi etici generali</a:t>
            </a:r>
            <a:endParaRPr b="0" lang="en-US" sz="2800" spc="-1" strike="noStrike">
              <a:solidFill>
                <a:srgbClr val="000000"/>
              </a:solidFill>
              <a:latin typeface="Arial"/>
            </a:endParaRPr>
          </a:p>
        </p:txBody>
      </p:sp>
      <p:sp>
        <p:nvSpPr>
          <p:cNvPr id="83" name="PlaceHolder 2"/>
          <p:cNvSpPr>
            <a:spLocks noGrp="1"/>
          </p:cNvSpPr>
          <p:nvPr>
            <p:ph/>
          </p:nvPr>
        </p:nvSpPr>
        <p:spPr>
          <a:xfrm>
            <a:off x="395280" y="980640"/>
            <a:ext cx="8291520" cy="504036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l turismo quale fattore di cultura, pace e sviluppo </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l turismo suscita la necessità di approfondire la conoscenza di paesi diversi, delle loro caratteristiche naturali e dei loro popoli; ha la capacità di attirare l'attenzione degli uomini e dei governi sui valori culturali e ambientali, sulla necessità di conservare tali valori e di farne oggetto di programmi educativi. La scoperta del patrimonio ambientale e storico culturale di altri paesi, in un atteggiamento di pieno rispetto, crea una rete di relazioni positive nei confronti della natura, della cultura e degli uomini ed è pertanto un importante strumento di pace. Le implicazioni economiche del turismo sono molteplici: esso crea nuovi posti di lavoro e favorisce lo sviluppo di infrastrutture finora mancanti in molti luoghi. Per numerosi paesi il turismo costituisce il maggiore apporto al prodotto interno. La crescita economica incide fortemente sulla vita e le tradizioni dei popoli; se non è correttamente guidata, può creare inconvenienti maggiori rispetto ai vantaggi. Di qui la necessità di un approccio etico ai problemi dello sviluppo.</a:t>
            </a:r>
            <a:endParaRPr b="0" lang="en-US" sz="2000" spc="-1" strike="noStrike">
              <a:solidFill>
                <a:srgbClr val="000000"/>
              </a:solidFill>
              <a:latin typeface="Arial"/>
            </a:endParaRPr>
          </a:p>
          <a:p>
            <a:pPr marL="603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tà e immagine territorial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ò che si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modo in cui siamo visti – vorremmo essere vis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 </a:t>
            </a:r>
            <a:br>
              <a:rPr sz="2800"/>
            </a:br>
            <a:r>
              <a:rPr b="0" lang="en-US" sz="2800" spc="-1" strike="noStrike">
                <a:solidFill>
                  <a:srgbClr val="000000"/>
                </a:solidFill>
                <a:latin typeface="Arial"/>
              </a:rPr>
              <a:t>I principi etici generali</a:t>
            </a:r>
            <a:endParaRPr b="0" lang="en-US" sz="2800" spc="-1" strike="noStrike">
              <a:solidFill>
                <a:srgbClr val="000000"/>
              </a:solidFill>
              <a:latin typeface="Arial"/>
            </a:endParaRPr>
          </a:p>
        </p:txBody>
      </p:sp>
      <p:sp>
        <p:nvSpPr>
          <p:cNvPr id="85" name="PlaceHolder 2"/>
          <p:cNvSpPr>
            <a:spLocks noGrp="1"/>
          </p:cNvSpPr>
          <p:nvPr>
            <p:ph/>
          </p:nvPr>
        </p:nvSpPr>
        <p:spPr>
          <a:xfrm>
            <a:off x="395280" y="836280"/>
            <a:ext cx="8137440" cy="532908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l turismo deve essere una attività di sviluppo responsabile e sostenibile che rispetti la capacità di carico ambientali, sociali ed economiche</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uristi sono tenuti a comportarsi come ospiti nei paesi visitati. Studi preventivi di pianificazione sono uno strumento indispensabile per un turismo responsabile. Uno sviluppo sconsiderato e mal programmato del turismo può danneggiare anche irrimediabilmente la natura, i monumenti, i contesti sociali e culturali dei paesi ospitanti. In tal caso il turismo viene meno alla sua ragion d'essere e si autodistrugge. Questi studi di pianificazione devono riconoscere le necessità e le aspirazioni delle diverse comunità, perciò richiedono un inventario delle risorse naturali, culturali e monumentali della regione; si tratterà di determinare i limiti biofisici, economici, ambientali e altre limitazioni alla crescita e allo sviluppo, stabilire le priorità di uso del territorio, identificare le aree di sviluppo e quelle da salvaguardare, definire i limiti per un cambiamento accettabile in un contesto turistico e integrare il turismo con altri usi del territorio. Studi sistematici sulla conservazione del patrimonio e sulle capacità di carico turistico devono essere promossi preventivamente per impedire un danno irreversibile, poiché salvaguardare il diritto al turismo e alla fruizione del patrimonio culturale e naturale della presente generazione è la sola garanzia del diritto delle generazioni future al godimento di quegli stessi beni.</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Il Codice</a:t>
            </a:r>
            <a:endParaRPr b="0" lang="en-US" sz="2800" spc="-1" strike="noStrike">
              <a:solidFill>
                <a:srgbClr val="000000"/>
              </a:solidFill>
              <a:latin typeface="Arial"/>
            </a:endParaRPr>
          </a:p>
        </p:txBody>
      </p:sp>
      <p:sp>
        <p:nvSpPr>
          <p:cNvPr id="8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urismo e valori umani dei paesi ospiti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Un totale rispetto dev'essere rivolto all'ambiente culturale e spirituale del paese visitato e a tutte le implicazioni che attengono, direttamente o indirettamente, alla conservazione del suo patrimonio e delle sue tradizioni. Vi sono popolazioni che non desiderano essere visitate da turisti nel caso in cui queste visite provochino reazioni negative, shock ed elementi di squilibrio. Deve essere compilato un elenco di questi casi particolari e il turismo internazionale dovrà essere convinto a rispettare rigorosamente queste proibizioni.In ogni caso, il paese ospitante ha diritto al rispetto dei propri modi di vita, della propria sensibilità morale e psicologica. Ogni forma di intrusione dall'esterno, capace di recare disturbo all'ambiente locale - come rumori, esibizionismi, inquinamento o attività distruttive - dovrà essere bandita. Non si dovranno sottolinear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Il Codice</a:t>
            </a:r>
            <a:endParaRPr b="0" lang="en-US" sz="2800" spc="-1" strike="noStrike">
              <a:solidFill>
                <a:srgbClr val="000000"/>
              </a:solidFill>
              <a:latin typeface="Arial"/>
            </a:endParaRPr>
          </a:p>
        </p:txBody>
      </p:sp>
      <p:sp>
        <p:nvSpPr>
          <p:cNvPr id="89"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urismo e protezione dell'ambiente biologico (flora e fauna)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mbiente in cui vivono specie di flora e fauna fragili, rare o prossime all'estinzione dovranno essere oggetto di un rispetto scrupoloso, inteso a salvaguardare al massimo la loro esistenza e il loro habitat, a impedire danni e a consentire la rigenerazione di territori e acque che il turismo avesse loro sottratto. Queste misure varranno per gli animali terrestri e gli uccelli di tutti gli ecosistemi in ogni continente, così come per gli animali che popolano le acque e quelli che vivono nelle cavità sotterranee. Le foreste, le fasce costiere, le acque correnti e stagnanti saranno soggette a speciale sorveglianza. E' urgente avviare studi per inventariare tutte le zone ecologicamente fragili e comunicarne i risultati alle organizzazioni responsabili del turismo.</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Il Codice</a:t>
            </a:r>
            <a:endParaRPr b="0" lang="en-US" sz="2800" spc="-1" strike="noStrike">
              <a:solidFill>
                <a:srgbClr val="000000"/>
              </a:solidFill>
              <a:latin typeface="Arial"/>
            </a:endParaRPr>
          </a:p>
        </p:txBody>
      </p:sp>
      <p:sp>
        <p:nvSpPr>
          <p:cNvPr id="91"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urismo e salvaguardia del patrimonio culturale </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tegrità dei monumenti e dei luoghi, siano o non siano protetti da guardiani e barriere, deve essere pienamente rispettata così come lo devono essere le leggi che proibiscono l'uso illegale di dispositivi di ricerca, il commercio di antichità o il loro scavo clandestino. Si dovranno prendere delle disposizioni speciali per impedire che monumenti, luoghi di interesse artistico e alberi vengano deturpati da graffiti e incisioni. Anche il contesto estetico di monumenti e siti di pregio dovrà essere sorvegliato con cura e sottratto alla segnaletica pubblicitaria.</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Il Codice</a:t>
            </a:r>
            <a:endParaRPr b="0" lang="en-US" sz="2800" spc="-1" strike="noStrike">
              <a:solidFill>
                <a:srgbClr val="000000"/>
              </a:solidFill>
              <a:latin typeface="Arial"/>
            </a:endParaRPr>
          </a:p>
        </p:txBody>
      </p:sp>
      <p:sp>
        <p:nvSpPr>
          <p:cNvPr id="9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urismo ed educazione </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I mezzi di comunicazione audiovisivi, le scuole e le università dovranno predisporre programmi educativi a tutti i livelli, accompagnati da visite ai siti di interesse turistico, al fine di mettere in pratica questo codice per il turismo e l'ambiente. Tali programmi dovranno chiamare in causa sia le discipline scientifiche che quelle umanistiche focalizzandole sui problemi del turismo e del patrimonio naturale e monumentale. A un livello superiore, le scuole professionali e i dipartimenti universitari dovrebbero unire i loro sforzi per promuovere una più matura consapevolezza dell'impatto turistico e una maggiore efficacia nell'orientare il comportamento del turismo di massa.</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Il Codice</a:t>
            </a:r>
            <a:endParaRPr b="0" lang="en-US" sz="2800" spc="-1" strike="noStrike">
              <a:solidFill>
                <a:srgbClr val="000000"/>
              </a:solidFill>
              <a:latin typeface="Arial"/>
            </a:endParaRPr>
          </a:p>
        </p:txBody>
      </p:sp>
      <p:sp>
        <p:nvSpPr>
          <p:cNvPr id="95"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Promuovere soluzioni alternative e politiche di piano </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vrebbero essere promosse, tanto l'istituzione di parchi naturali con itinerari segnalati, quanto l'individuazione di itinerari segnalati, quanto l'individuazione di nuove aree turistiche a carico pianificato, da proporsi come alternative a una incontrollata invasione di ambienti naturali da parte del turismo di massa. Al tempo stesso l'impostazione di limiti di carico turistici e di misure volte alla conservazione del patrimonio ambientale e culturale richiederanno nuove forme di convincimento, atte a contemperare tali misure con il godimento turistico di quei beni. Itinerari alternativi che colleghino siti e monumenti meno noti sono proposti in molti paesi ai turisti che perseguano forme di fruizione più personali, approfondite e consapevoli. Le autorità preposte avranno l'obbligo di pianificare con cura la quantità e i programmi dei visitatori nelle aree più fragili e con più limitata capacità di carico. Esse dovranno istruire con chiarezza i turisti, al fine di trasmettere loro appropriati messaggi culturali e di evitare danni al patrimonio naturale e umano.</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Appello etico agli organi responsabili</a:t>
            </a:r>
            <a:endParaRPr b="0" lang="en-US" sz="2800" spc="-1" strike="noStrike">
              <a:solidFill>
                <a:srgbClr val="000000"/>
              </a:solidFill>
              <a:latin typeface="Arial"/>
            </a:endParaRPr>
          </a:p>
        </p:txBody>
      </p:sp>
      <p:sp>
        <p:nvSpPr>
          <p:cNvPr id="9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turismo deve ricreare, non distruggere </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uristi devono essere indotti a programmare i loro viaggi sia da un punto di vista tecnico sia con un'adeguata disposizione mentale e a comportarsi in modo rispettoso nei confronti degli uomini e degli ambienti; essi devono essere convinti che tali comportamenti sono molto più remunerativi che le incursioni casuali, rumorose e inquinanti, che altro non producono se non una volgare ostentazione del proprio egoistico modo di vivere, in dispregio e a danno di altri popoli e altre comunità. Tuttavia nessun codice, nessuna regolamentazione sarà sufficiente a fronteggiare questi problemi, se la coscienza di ogni individuo non sarà resa sensibile a principi etici che inducano a comportarsi da ospiti in paesi stranieri e negli ambienti che ci circondano. Nessun programma di educazione potrà essere posto in atto, se il desiderio di conoscenza e l'atteggiamento di responsabilità nei confronti del patrimonio ambientale e culturale non sarà inoculato e profondamente radicato in ogni cittadino del mondo fin dall'infanzia.</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 Appello etico agli organi responsabili</a:t>
            </a:r>
            <a:endParaRPr b="0" lang="en-US" sz="2800" spc="-1" strike="noStrike">
              <a:solidFill>
                <a:srgbClr val="000000"/>
              </a:solidFill>
              <a:latin typeface="Arial"/>
            </a:endParaRPr>
          </a:p>
        </p:txBody>
      </p:sp>
      <p:sp>
        <p:nvSpPr>
          <p:cNvPr id="99"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Gli Stati e i governi dovranno promuovere adeguati studi di previsione e strumenti educativi aggiornati alle moderne esigenze comunicative </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molti e complessi legami esistenti fra l'industria turistica e le mete di soggiorno, naturali e culturali, richiedono con urgenza studi interdisciplinari e strumenti di pianificazione. Ricerca e studi di previsione non dovranno limitarsi a considerare il solo aspetto economico del fatto turistico, ma anche i problemi delle risorse ambientali e culturali, visti come componenti finite e non rinnovabili dell'ambiente. La già richiamata interdipendenza di tutti gli aspetti dell'ambiente, inteso nel suo senso più lato di natura più cultura dovrà essere tenuta presente in sede universitaria, nella formazione dei nuovi diplomi o lauree in materia turistica, naturalmente in collegamento con i programmi e gli istituti di ricerca. Una intesa internazionale sarà essenziale per dare qualità e ampiezza di respiro a tali iniziative. A loro volta i processi educativi dovranno essere sostenuti dai nuovi metodi di sensibilizzazione, incluse le campagne pubblicitarie, i programmi televisivi, l'informatica e tutti i mezzi capaci di estendere e moltiplicare la forza dei messaggi con maggiore efficacia rispetto ai mezzi tradizionali, come i libri, gli opuscoli, le diapositive.</a:t>
            </a:r>
            <a:endParaRPr b="0" lang="en-US" sz="18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 Appello etico agli organi responsabili</a:t>
            </a:r>
            <a:endParaRPr b="0" lang="en-US" sz="2800" spc="-1" strike="noStrike">
              <a:solidFill>
                <a:srgbClr val="000000"/>
              </a:solidFill>
              <a:latin typeface="Arial"/>
            </a:endParaRPr>
          </a:p>
        </p:txBody>
      </p:sp>
      <p:sp>
        <p:nvSpPr>
          <p:cNvPr id="101"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I tour operator e l'industria turistica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miope sfruttamento del turismo di massa porta all'autodistruzione, mentre innescare un controllo di qualità del "prodotto turistico" a tutti i livelli può portare il turismo a essere una delle forze dinamiche che operano per un salutare progresso dell'economia e dell'ambiente. Come in ogni forma di produzione industriale, soltanto una continua ricerca di crescita può garantire un futuro all'"industria del turismo". Problemi come la sicurezza e la salute sono ovviamente basilari, ma il grande pubblico è divenuto via via più sensibile ai temi ecologici, alla conservazione e alla decorosa presentazione di luoghi e monumenti. La richiesta di ingredienti culturali ed educativi nel "prodotto turismo" è in crescita continua. […] </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 sull’etica del turismo e dell’ambiente.</a:t>
            </a:r>
            <a:br>
              <a:rPr sz="2800"/>
            </a:br>
            <a:r>
              <a:rPr b="0" lang="en-US" sz="2800" spc="-1" strike="noStrike">
                <a:solidFill>
                  <a:srgbClr val="000000"/>
                </a:solidFill>
                <a:latin typeface="Arial"/>
              </a:rPr>
              <a:t> Appello etico agli organi responsabili</a:t>
            </a:r>
            <a:endParaRPr b="0" lang="en-US" sz="2800" spc="-1" strike="noStrike">
              <a:solidFill>
                <a:srgbClr val="000000"/>
              </a:solidFill>
              <a:latin typeface="Arial"/>
            </a:endParaRPr>
          </a:p>
        </p:txBody>
      </p:sp>
      <p:sp>
        <p:nvSpPr>
          <p:cNvPr id="10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I tour operator e l'industria turistica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formazioni corrette e adeguate, guide preparate, documentazioni attraenti e dense di informazioni daranno un sempre maggior valore all'offerta di servizi turistici. Una particolare attenzione deve essere dedicata alla progettazione architettonica delle infrastrutture turistiche utilizzando stili e materiali di costruzione che siano in armonia con l'ambiente naturale. E' tempo di pensare ad alternative estetiche ed ecologiche rispetto agli enormi alberghi-grattacieli e ai padiglioni e palazzi di cemento, nei quali il cospicuo consumo di turismo si reclamizza da solo come una ingombrante intrusione estranea che, se "produce" turismo, si dimostra incapace di immaginare un migliore inserimento nell'ambiente locale. Tali costruzioni, oltretutto costose da mantenere, sono destinate a divenire i testimoni monumentali di una "archeologia turistica". </a:t>
            </a:r>
            <a:r>
              <a:rPr b="0" lang="en-US" sz="2000" spc="-1" strike="noStrike">
                <a:solidFill>
                  <a:srgbClr val="000000"/>
                </a:solidFill>
                <a:latin typeface="Arial"/>
              </a:rPr>
              <a:t>	</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tà territoria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 sono le caratteristiche del territor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fich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h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nditori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no di Turismo Integrato</a:t>
            </a:r>
            <a:endParaRPr b="0" lang="en-US" sz="3200" spc="-1" strike="noStrike">
              <a:solidFill>
                <a:srgbClr val="000000"/>
              </a:solidFill>
              <a:latin typeface="Arial"/>
            </a:endParaRPr>
          </a:p>
        </p:txBody>
      </p:sp>
      <p:sp>
        <p:nvSpPr>
          <p:cNvPr id="10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Attrarre tur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 valore per il territorio e innesca scambi e relazioni con mondi e mercati a tutti 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bliga lo studio di un Piano di Turismo Integrato (successivamente denominato P.I.T.) che definisca pacchetti strutturati, vendibili, comunicabili, sostenibili sui mercati del turismo nelle loro diverse espression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no di Turismo Integrato</a:t>
            </a:r>
            <a:endParaRPr b="0" lang="en-US" sz="32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iettivo del PT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rre un’offerta turistica territoriale incentrata su “attrattor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disfare la tendenza attuale della domanda di costruire soggiorni “fatti su misura” (auto-organizzati grazie soprattutto all’ausilio di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disfare l’esigenza di destagionalizzare il più possibile i flussi e allungare la permanenz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ttro fondamentali fattori dell’offerta</a:t>
            </a:r>
            <a:endParaRPr b="0" lang="en-US" sz="32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orto qualità – prezz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ro e puliz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zi al tur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à dell’accoglie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ttività del Patrimonio culturale</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 i tanti fattori che costituiscono l’offerta 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territorio, il patrimonio culturale è quel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 più di altri ha la capacità di attrar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atori e risorse che interessano il tur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9000"/>
            <a:ext cx="8588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imonio culturale e memoria</a:t>
            </a:r>
            <a:br>
              <a:rPr sz="2400"/>
            </a:br>
            <a:r>
              <a:rPr b="0" lang="en-US" sz="2400" spc="-1" strike="noStrike">
                <a:solidFill>
                  <a:srgbClr val="000000"/>
                </a:solidFill>
                <a:latin typeface="Arial"/>
              </a:rPr>
              <a:t>Il Codice dei Beni Culturali e del Paesaggio</a:t>
            </a:r>
            <a:br>
              <a:rPr sz="2400"/>
            </a:br>
            <a:r>
              <a:rPr b="0" lang="en-US" sz="2400" spc="-1" strike="noStrike">
                <a:solidFill>
                  <a:srgbClr val="000000"/>
                </a:solidFill>
                <a:latin typeface="Arial"/>
              </a:rPr>
              <a:t>DLgs 42/2004</a:t>
            </a:r>
            <a:endParaRPr b="0" lang="en-US" sz="2400" spc="-1" strike="noStrike">
              <a:solidFill>
                <a:srgbClr val="000000"/>
              </a:solidFill>
              <a:latin typeface="Arial"/>
            </a:endParaRPr>
          </a:p>
        </p:txBody>
      </p:sp>
      <p:sp>
        <p:nvSpPr>
          <p:cNvPr id="113" name=""/>
          <p:cNvSpPr/>
          <p:nvPr/>
        </p:nvSpPr>
        <p:spPr>
          <a:xfrm>
            <a:off x="468360" y="4941720"/>
            <a:ext cx="3672000" cy="93672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ctr">
            <a:normAutofit fontScale="64000"/>
          </a:bodyPr>
          <a:p>
            <a:pPr marL="219240" indent="-219240" algn="ctr">
              <a:lnSpc>
                <a:spcPct val="6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9240" indent="-21924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Elementi Tangibili</a:t>
            </a:r>
            <a:endParaRPr b="0" lang="en-US" sz="1800" spc="-1" strike="noStrike">
              <a:solidFill>
                <a:srgbClr val="000000"/>
              </a:solidFill>
              <a:latin typeface="Arial"/>
            </a:endParaRPr>
          </a:p>
          <a:p>
            <a:pPr marL="219240" indent="-21924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Musei, Biblioteche,Chiese, Manoscritti, Opere Pittoriche)</a:t>
            </a:r>
            <a:r>
              <a:rPr b="0" lang="it-IT" sz="3200" spc="-1" strike="noStrike">
                <a:solidFill>
                  <a:srgbClr val="000000"/>
                </a:solidFill>
                <a:latin typeface="Arial"/>
                <a:ea typeface="Arial"/>
              </a:rPr>
              <a:t> </a:t>
            </a:r>
            <a:endParaRPr b="0" lang="en-US" sz="3200" spc="-1" strike="noStrike">
              <a:solidFill>
                <a:srgbClr val="000000"/>
              </a:solidFill>
              <a:latin typeface="Arial"/>
            </a:endParaRPr>
          </a:p>
          <a:p>
            <a:pPr marL="219240" indent="-219240" algn="ctr">
              <a:lnSpc>
                <a:spcPct val="6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1042920" y="1413000"/>
            <a:ext cx="7018560" cy="134604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00"/>
                </a:solidFill>
                <a:latin typeface="Arial"/>
                <a:ea typeface="ヒラギノ角ゴ Pro W3"/>
              </a:rPr>
              <a:t>Art 1 comma 2. </a:t>
            </a:r>
            <a:endParaRPr b="0" lang="en-US" sz="1800" spc="-1" strike="noStrike">
              <a:solidFill>
                <a:srgbClr val="000000"/>
              </a:solidFill>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it-IT" sz="1800" spc="-1" strike="noStrike">
                <a:solidFill>
                  <a:srgbClr val="000000"/>
                </a:solidFill>
                <a:latin typeface="Arial"/>
                <a:ea typeface="ヒラギノ角ゴ Pro W3"/>
              </a:rPr>
              <a:t>La tutela e la valorizzazione del patrimonio culturale concorrono a preservare la memoria della comunità nazionale e del suo territorio e a promuovere lo sviluppo della cultura.</a:t>
            </a:r>
            <a:endParaRPr b="0" lang="en-US" sz="1800" spc="-1" strike="noStrike">
              <a:solidFill>
                <a:srgbClr val="000000"/>
              </a:solidFill>
              <a:latin typeface="Arial"/>
            </a:endParaRPr>
          </a:p>
        </p:txBody>
      </p:sp>
      <p:sp>
        <p:nvSpPr>
          <p:cNvPr id="115" name=""/>
          <p:cNvSpPr/>
          <p:nvPr/>
        </p:nvSpPr>
        <p:spPr>
          <a:xfrm flipH="1">
            <a:off x="2916360" y="3933720"/>
            <a:ext cx="792000" cy="936720"/>
          </a:xfrm>
          <a:prstGeom prst="line">
            <a:avLst/>
          </a:prstGeom>
          <a:ln w="50760">
            <a:solidFill>
              <a:srgbClr val="c4c4c4"/>
            </a:solidFill>
            <a:miter/>
            <a:tailEnd len="med" type="triangle" w="med"/>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116" name=""/>
          <p:cNvSpPr/>
          <p:nvPr/>
        </p:nvSpPr>
        <p:spPr>
          <a:xfrm>
            <a:off x="5434920" y="4005360"/>
            <a:ext cx="718920" cy="863640"/>
          </a:xfrm>
          <a:prstGeom prst="line">
            <a:avLst/>
          </a:prstGeom>
          <a:ln w="50760">
            <a:solidFill>
              <a:srgbClr val="c4c4c4"/>
            </a:solidFill>
            <a:miter/>
            <a:tailEnd len="med" type="triangle" w="med"/>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117" name=""/>
          <p:cNvSpPr/>
          <p:nvPr/>
        </p:nvSpPr>
        <p:spPr>
          <a:xfrm>
            <a:off x="2556000" y="3357720"/>
            <a:ext cx="4395600" cy="50472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ctr">
            <a:normAutofit fontScale="70000"/>
          </a:bodyPr>
          <a:p>
            <a:pPr marL="240120" indent="-240120">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Arial"/>
              </a:rPr>
              <a:t>             </a:t>
            </a:r>
            <a:r>
              <a:rPr b="1" lang="it-IT" sz="1800" spc="-1" strike="noStrike">
                <a:solidFill>
                  <a:srgbClr val="000000"/>
                </a:solidFill>
                <a:latin typeface="Arial"/>
                <a:ea typeface="Arial"/>
              </a:rPr>
              <a:t>CULTURA</a:t>
            </a:r>
            <a:r>
              <a:rPr b="0" lang="it-IT"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18" name=""/>
          <p:cNvSpPr/>
          <p:nvPr/>
        </p:nvSpPr>
        <p:spPr>
          <a:xfrm>
            <a:off x="4572000" y="2852640"/>
            <a:ext cx="0" cy="457200"/>
          </a:xfrm>
          <a:prstGeom prst="line">
            <a:avLst/>
          </a:prstGeom>
          <a:ln w="50760">
            <a:solidFill>
              <a:srgbClr val="c4c4c4"/>
            </a:solidFill>
            <a:miter/>
            <a:tailEnd len="med" type="triangle" w="med"/>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119" name=""/>
          <p:cNvSpPr/>
          <p:nvPr/>
        </p:nvSpPr>
        <p:spPr>
          <a:xfrm>
            <a:off x="4643280" y="4941720"/>
            <a:ext cx="3672000" cy="93672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ctr">
            <a:normAutofit fontScale="64000"/>
          </a:bodyPr>
          <a:p>
            <a:pPr marL="219240" indent="-219240" algn="ctr">
              <a:lnSpc>
                <a:spcPct val="6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9240" indent="-21924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Elementi Intangibili</a:t>
            </a:r>
            <a:endParaRPr b="0" lang="en-US" sz="1800" spc="-1" strike="noStrike">
              <a:solidFill>
                <a:srgbClr val="000000"/>
              </a:solidFill>
              <a:latin typeface="Arial"/>
            </a:endParaRPr>
          </a:p>
          <a:p>
            <a:pPr marL="219240" indent="-21924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Folklore, enogastronomia, dialetto, metodi di coltivazione)</a:t>
            </a:r>
            <a:r>
              <a:rPr b="0" lang="it-IT" sz="3200" spc="-1" strike="noStrike">
                <a:solidFill>
                  <a:srgbClr val="000000"/>
                </a:solidFill>
                <a:latin typeface="Arial"/>
                <a:ea typeface="Arial"/>
              </a:rPr>
              <a:t> </a:t>
            </a:r>
            <a:endParaRPr b="0" lang="en-US" sz="3200" spc="-1" strike="noStrike">
              <a:solidFill>
                <a:srgbClr val="000000"/>
              </a:solidFill>
              <a:latin typeface="Arial"/>
            </a:endParaRPr>
          </a:p>
          <a:p>
            <a:pPr marL="219240" indent="-219240" algn="ctr">
              <a:lnSpc>
                <a:spcPct val="6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orizzazione del Patrimonio culturale</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n PTI, la valorizzazione del Patrimon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e è prioritaria. Al centro di un ta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a di sviluppo vi sono g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ttori culturali e la loro organizzazione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attrattori</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o organizzati secondo la modern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ui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il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osi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volezza dei locali/serviz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ruttano strumenti delle ICT per la gestione e la promozione/comunica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attrattori</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ali i punti di forza e di debolezza rispetto agli attrattori concorrenti? Quali le opportunità e le minacce dell’ambiente in cui si trova il terri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rengths: punti di forz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aknesses: punti di debolezz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portunities: vabbè è faci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reats: minac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 quattro elementi consent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 evidenziare le caratteristiche dell’oggetto dell’analis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 far emergere i meccanismi interni sui quali si vuole interven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 descrivere il contesto esterno di riferimento che influenza il perseguimento degli obiettivi.</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agine territoria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a “vendia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ta corrisponde alla do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o e come si “ascoltano” le esigen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a siamo e cosa aspiriamo ad essere?</a:t>
            </a:r>
            <a:endParaRPr b="0" lang="en-US" sz="32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e ci percepisce il mercato </a:t>
            </a:r>
            <a:r>
              <a:rPr b="0" lang="en-US" sz="2700" spc="-1" strike="noStrike">
                <a:solidFill>
                  <a:srgbClr val="000000"/>
                </a:solidFill>
                <a:latin typeface="Wingdings"/>
                <a:ea typeface="Wingdings"/>
              </a:rPr>
              <a:t></a:t>
            </a:r>
            <a:r>
              <a:rPr b="0" lang="en-US" sz="2700" spc="-1" strike="noStrike">
                <a:solidFill>
                  <a:srgbClr val="000000"/>
                </a:solidFill>
                <a:latin typeface="Arial"/>
              </a:rPr>
              <a:t> Posizionamento</a:t>
            </a:r>
            <a:endParaRPr b="0" lang="en-US" sz="2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ncere la sfida: comunicare quello che il cliente (imprenditore, residente, turista) vuole sapere, nel linguaggio che il cliente conos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alisi consente di descrivere il modello di</a:t>
            </a:r>
            <a:endParaRPr b="0" lang="en-US" sz="3200" spc="-1" strike="noStrike">
              <a:solidFill>
                <a:srgbClr val="0000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zionamento di una determinata unità</a:t>
            </a:r>
            <a:endParaRPr b="0" lang="en-US" sz="3200" spc="-1" strike="noStrike">
              <a:solidFill>
                <a:srgbClr val="0000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ica (in questo caso del territorio)</a:t>
            </a:r>
            <a:endParaRPr b="0" lang="en-US" sz="3200" spc="-1" strike="noStrike">
              <a:solidFill>
                <a:srgbClr val="0000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ndo:</a:t>
            </a:r>
            <a:endParaRPr b="0" lang="en-US" sz="3200" spc="-1" strike="noStrike">
              <a:solidFill>
                <a:srgbClr val="000000"/>
              </a:solidFill>
              <a:latin typeface="Arial"/>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variabili </a:t>
            </a:r>
            <a:r>
              <a:rPr b="0" lang="en-US" sz="3200" spc="-1" strike="noStrike" u="sng">
                <a:solidFill>
                  <a:srgbClr val="000000"/>
                </a:solidFill>
                <a:uFillTx/>
                <a:latin typeface="Arial"/>
              </a:rPr>
              <a:t>endogene</a:t>
            </a:r>
            <a:r>
              <a:rPr b="0" lang="en-US" sz="3200" spc="-1" strike="noStrike">
                <a:solidFill>
                  <a:srgbClr val="000000"/>
                </a:solidFill>
                <a:latin typeface="Arial"/>
              </a:rPr>
              <a:t> (o interne) strumentali (i punti di forza e di debolezza)</a:t>
            </a:r>
            <a:endParaRPr b="0" lang="en-US" sz="3200" spc="-1" strike="noStrike">
              <a:solidFill>
                <a:srgbClr val="000000"/>
              </a:solidFill>
              <a:latin typeface="Arial"/>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variabili </a:t>
            </a:r>
            <a:r>
              <a:rPr b="0" lang="en-US" sz="3200" spc="-1" strike="noStrike" u="sng">
                <a:solidFill>
                  <a:srgbClr val="000000"/>
                </a:solidFill>
                <a:uFillTx/>
                <a:latin typeface="Arial"/>
              </a:rPr>
              <a:t>esogene</a:t>
            </a:r>
            <a:r>
              <a:rPr b="0" lang="en-US" sz="3200" spc="-1" strike="noStrike">
                <a:solidFill>
                  <a:srgbClr val="000000"/>
                </a:solidFill>
                <a:latin typeface="Arial"/>
              </a:rPr>
              <a:t> (o esterne) che influenzano il comportamento del sistema (le potenzialità e le minac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variabili </a:t>
            </a:r>
            <a:r>
              <a:rPr b="1" i="1" lang="en-US" sz="3200" spc="-1" strike="noStrike">
                <a:solidFill>
                  <a:srgbClr val="000000"/>
                </a:solidFill>
                <a:latin typeface="Arial"/>
              </a:rPr>
              <a:t>endogene </a:t>
            </a:r>
            <a:r>
              <a:rPr b="0" lang="en-US" sz="3200" spc="-1" strike="noStrike">
                <a:solidFill>
                  <a:srgbClr val="000000"/>
                </a:solidFill>
                <a:latin typeface="Arial"/>
              </a:rPr>
              <a:t>(forza e debolez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o parte integrante del sistema stes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o variabili sulle quali si può intervenire per perseguire obiettivi prefissati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variabili </a:t>
            </a:r>
            <a:r>
              <a:rPr b="1" i="1" lang="en-US" sz="3200" spc="-1" strike="noStrike">
                <a:solidFill>
                  <a:srgbClr val="000000"/>
                </a:solidFill>
                <a:latin typeface="Arial"/>
              </a:rPr>
              <a:t>esogene </a:t>
            </a:r>
            <a:r>
              <a:rPr b="0" lang="en-US" sz="3200" spc="-1" strike="noStrike">
                <a:solidFill>
                  <a:srgbClr val="000000"/>
                </a:solidFill>
                <a:latin typeface="Arial"/>
              </a:rPr>
              <a:t>(opportunità 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ac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o esterne al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ci può essere un controllo diret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aggio ed analisi per limitare i danni (verificarsi di minacce) o massimizzare i vantaggi (dovuti alle opportunità)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mpi di punti di forza (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l patrimonio culturale del territorio riveste grande importanza storica e artist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o presenti nel territorio tot vini DO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istono settori di specializzazione, soprattut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l setto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gastronomia locale off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l territorio è caratterizzato da un’elevata densit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 imprese artigi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empi di punti di debolezza (W):</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ttuale dotazione infrastrutturale loca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beni del patrimonio culturale risultano spesso in stato di abbando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l reperimento di lavoratori è difficile a cau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li investimenti in ICT degli En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l livello di specializzazione dei serviz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fferta ricettiva extralberghiera è limit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mpi di opportunità (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È in costante aumento la domanda turistica basata sull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uizione delle risorse eno-gastronomich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alizzazione di marchi di qualità a livello territoria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cremento dell’offerta di “servizi aggiuntivi” nel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trutture museali</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a ricchezza di risorse storico - ambientali offre ampie possibilità</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i diversificazione e destagionalizzazione dei flussi turistici;</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mpliamento dell’offerta di servizi al turist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mpliamento dell’offerta di strutture scolastiche e formativ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empi di minacce (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si econom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nza di una rete telematica adegu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nze infrastruttura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izzazione geograf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c.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 SWOT</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strategia successivamente fisserà le variabili obiettivo e conseguentemente le azioni sulla base del modello descritto nella SW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attrattori</a:t>
            </a:r>
            <a:endParaRPr b="0" lang="en-US" sz="32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riticità individuate hanno caratte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tturale (degrado della zona o del b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e) o sono dovute a scarsa capacità 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orizzazione/promozi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strategia basata sulla “rete” di attrattori</a:t>
            </a:r>
            <a:endParaRPr b="0" lang="en-US" sz="32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ttori: </a:t>
            </a:r>
            <a:r>
              <a:rPr b="0" i="1" lang="en-US" sz="3200" spc="-1" strike="noStrike">
                <a:solidFill>
                  <a:srgbClr val="000000"/>
                </a:solidFill>
                <a:latin typeface="Arial"/>
              </a:rPr>
              <a:t>core</a:t>
            </a:r>
            <a:r>
              <a:rPr b="0" lang="en-US" sz="3200" spc="-1" strike="noStrike">
                <a:solidFill>
                  <a:srgbClr val="000000"/>
                </a:solidFill>
                <a:latin typeface="Arial"/>
              </a:rPr>
              <a:t> di un’offerta più ampia (da strutturare) destinati a costituire “pacchetti turistici” intorno ad ogni singolo attrattore o tra più attrattori contig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ta: pensata in funzione delle diverse componenti e tipologie di turismo e di turi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blici di riferiment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 chi “vendi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sid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mpr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vestito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ri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strategia basata sulla “rete” di attrattori</a:t>
            </a:r>
            <a:endParaRPr b="0" lang="en-US" sz="32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orre tener con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logie di attrattori presen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loro diverso grado di sviluppo, effettivo e potenziale, al fine di individuare un ordine di  priorità degli interventi da realizzare che si basi sulla </a:t>
            </a:r>
            <a:r>
              <a:rPr b="1" i="1" lang="en-US" sz="3200" spc="-1" strike="noStrike">
                <a:solidFill>
                  <a:srgbClr val="000000"/>
                </a:solidFill>
                <a:latin typeface="Arial"/>
              </a:rPr>
              <a:t>notorietà</a:t>
            </a:r>
            <a:r>
              <a:rPr b="0" lang="en-US" sz="3200" spc="-1" strike="noStrike">
                <a:solidFill>
                  <a:srgbClr val="000000"/>
                </a:solidFill>
                <a:latin typeface="Arial"/>
              </a:rPr>
              <a:t> attuale, quanto sul livello di unicità e rarità che li caratterizz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strategia basata sulla “rete” di attrattori</a:t>
            </a:r>
            <a:endParaRPr b="0" lang="en-US" sz="32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unzione della notorietà, gli attratto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ono classificar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o livello</a:t>
            </a:r>
            <a:r>
              <a:rPr b="0" lang="en-US" sz="2800" spc="-1" strike="noStrike">
                <a:solidFill>
                  <a:srgbClr val="000000"/>
                </a:solidFill>
                <a:latin typeface="Arial"/>
              </a:rPr>
              <a:t> </a:t>
            </a:r>
            <a:r>
              <a:rPr b="1" lang="en-US" sz="2800" spc="-1" strike="noStrike">
                <a:solidFill>
                  <a:srgbClr val="000000"/>
                </a:solidFill>
                <a:latin typeface="Arial"/>
              </a:rPr>
              <a:t>(o grandi attrattori)</a:t>
            </a:r>
            <a:r>
              <a:rPr b="0" lang="en-US" sz="2800" spc="-1" strike="noStrike">
                <a:solidFill>
                  <a:srgbClr val="000000"/>
                </a:solidFill>
                <a:latin typeface="Arial"/>
              </a:rPr>
              <a:t>: siti e località di nota importanz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o livello (o attrattori)</a:t>
            </a:r>
            <a:r>
              <a:rPr b="0" lang="en-US" sz="2800" spc="-1" strike="noStrike">
                <a:solidFill>
                  <a:srgbClr val="000000"/>
                </a:solidFill>
                <a:latin typeface="Arial"/>
              </a:rPr>
              <a:t>: testimonianze di varia natura e importanza, noti alla specifica tipologia di turista (campi da golf,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zo livello (attrattori minori)</a:t>
            </a:r>
            <a:r>
              <a:rPr b="0" lang="en-US" sz="2800" spc="-1" strike="noStrike">
                <a:solidFill>
                  <a:srgbClr val="000000"/>
                </a:solidFill>
                <a:latin typeface="Arial"/>
              </a:rPr>
              <a:t>: testimonianze della cultura locale nel territorio rurale, poco conosciuti al grande pubbl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strategia basata sulla “rete” di attrattor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otesi di tematiche per segm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e (torri e castelli, muse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istico - ambientale (parchi e riserve, isole e grot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so (luoghi sacri, vie dei pellegri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no – sportivo (porti, trekking, ciclotur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rale e tipicità (tradizioni popolari, prodotti tipic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ari ed eventi (fiere, congressi, most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ioni per un piano di valorizzazione degli attrattori</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iguardo agli attrattor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ruire intorno agli attrattori culturali (grandi o di pri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llo) un pacchetto integrato di attrattori minor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o/terzo livello)  consente di inserirli nei circuit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stenti e/o potenziali (futur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risultato di un’offerta così potenziata è dupli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ncide sull’allungamento del “tempo di permanenza” del turis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timola l’aumento e la diversificazione della doma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ioni per un piano di valorizzazione degli attrattori</a:t>
            </a:r>
            <a:endParaRPr b="0" lang="en-US" sz="32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iguardo ai serviz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orre tener conto dello stato d’uso di ogni attratt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ia del livello di fruibilità (attuale) rispetto a quello ch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 possedere (ottima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o per definire se e quali investimenti realizz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ttur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edo urba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uro / Ristruttur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zion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ioni per un piano di valorizzazione degli attrattori</a:t>
            </a:r>
            <a:endParaRPr b="0" lang="en-US" sz="32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iguardo alle attività di suppor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vanno considerate marginali, poiché influenzano la qualit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l’accogl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 queste attività rientr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tture fisiche e tecnologiche circostanti (porti e aeroporti, strade e parcheggi, connettività telema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sistema dei trasporti pubblici e priv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sistema dei servizi al turista (informazione, ospitalità, competenza, professionalit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ività di promozione ed incentivazione rivolte agli operatori dagli Enti Pubblic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sistema di pianificazione strategica dell’intero sito turistico nel rispetto dell’ambiente e per la fruizione dello st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celta degli attrattori</a:t>
            </a:r>
            <a:endParaRPr b="0" lang="en-US" sz="32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a scelta degli attrattori è opportu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rsi su quelli che si collocano 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o collocabil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go le direttrici “forti” dei flussi turistic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lle strutture che ospitano beni più noti e frequentati in assolu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azi o assi di relazione di risorse culturali molto importa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celta degli attrattori</a:t>
            </a:r>
            <a:endParaRPr b="0" lang="en-US" sz="32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e strategia consente di valorizza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iti territoriali con risorse di altissimo interesse, ma lontane da fruizione turis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e con una concentrazione significativa di risorse culturali minor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e con una presenza di beni di elevato interesse, ma separati dal proprio contesto o in contesti fortemente problematic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celta degli attrattori</a:t>
            </a:r>
            <a:endParaRPr b="0" lang="en-US" sz="32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celta deve anche tener co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gli ostacoli alla cooperazione tra strategie e soggetti diversi (pubblici e priv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di conflittualità tra usi e attività (interni/esterni al comparto turistico) da cui possono crearsi esternalità negative e fattori di repulsione turistica (c.d. </a:t>
            </a:r>
            <a:r>
              <a:rPr b="0" i="1" lang="it-IT" sz="3200" spc="-1" strike="noStrike">
                <a:solidFill>
                  <a:srgbClr val="000000"/>
                </a:solidFill>
                <a:latin typeface="Arial"/>
              </a:rPr>
              <a:t>detrattori</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celta degli attrattori</a:t>
            </a:r>
            <a:endParaRPr b="0" lang="en-US" sz="32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esto punto, si dovrà costruire un’immag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istica partendo dallo status qu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une delle località dove si collocano gl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attori fanno già parte dell’immaginar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ttivo, rappresentando (per quanto in mis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guata rispetto al potenziale) </a:t>
            </a:r>
            <a:r>
              <a:rPr b="1" i="1" lang="en-US" sz="2800" spc="-1" strike="noStrike">
                <a:solidFill>
                  <a:srgbClr val="000000"/>
                </a:solidFill>
                <a:latin typeface="Arial"/>
              </a:rPr>
              <a:t>nicchie</a:t>
            </a:r>
            <a:r>
              <a:rPr b="0" lang="en-US" sz="2800" spc="-1" strike="noStrike">
                <a:solidFill>
                  <a:srgbClr val="000000"/>
                </a:solidFill>
                <a:latin typeface="Arial"/>
              </a:rPr>
              <a:t> d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ato specifiche, di cui si dovrà tentare una pi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a chiave di attr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omio attrattività - valo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marketing del territorio si sviluppa t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o ed esterno, tra </a:t>
            </a:r>
            <a:r>
              <a:rPr b="0" i="1" lang="en-US" sz="3200" spc="-1" strike="noStrike">
                <a:solidFill>
                  <a:srgbClr val="000000"/>
                </a:solidFill>
                <a:latin typeface="Arial"/>
              </a:rPr>
              <a:t>attrattività</a:t>
            </a:r>
            <a:r>
              <a:rPr b="0" lang="en-US" sz="3200" spc="-1" strike="noStrike">
                <a:solidFill>
                  <a:srgbClr val="000000"/>
                </a:solidFill>
                <a:latin typeface="Arial"/>
              </a:rPr>
              <a:t> e </a:t>
            </a:r>
            <a:r>
              <a:rPr b="0" i="1" lang="en-US" sz="3200" spc="-1" strike="noStrike">
                <a:solidFill>
                  <a:srgbClr val="000000"/>
                </a:solidFill>
                <a:latin typeface="Arial"/>
              </a:rPr>
              <a:t>val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ercorsi di fruizione</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 percorsi hanno la funzione 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re/guidare l’acces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 diversificare e di arricchire ulteriormente l'offerta turistica dei microsistem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re "itinerari di cornice" e "circuiti" sul territorio, selezionati in ragione della  loro contiguità o connessione a beni od ambienti caratterizzanti, per esaltarne la riconoscibilità e l'effettivo utilizz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88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ercorsi di fruizione</a:t>
            </a:r>
            <a:endParaRPr b="0" lang="en-US" sz="3200" spc="-1" strike="noStrike">
              <a:solidFill>
                <a:srgbClr val="000000"/>
              </a:solidFill>
              <a:latin typeface="Arial"/>
            </a:endParaRPr>
          </a:p>
        </p:txBody>
      </p:sp>
      <p:sp>
        <p:nvSpPr>
          <p:cNvPr id="173"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cune tipologie:</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orsi automobilistici</a:t>
            </a:r>
            <a:r>
              <a:rPr b="0" lang="en-US" sz="2000" spc="-1" strike="noStrike">
                <a:solidFill>
                  <a:srgbClr val="000000"/>
                </a:solidFill>
                <a:latin typeface="Arial"/>
              </a:rPr>
              <a:t>, il cui centro di interesse é costituito dal paesaggio rurale e dagli insediamenti storici ad esso collegati. A questi potrebbero eventualmente accompagnarsi occasioni di consumo o di acquisto di prodotti tipici locali, ristoranti e osterie caratteristici, masserie ec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orsi ciclabili</a:t>
            </a:r>
            <a:r>
              <a:rPr b="0" lang="en-US" sz="2000" spc="-1" strike="noStrike">
                <a:solidFill>
                  <a:srgbClr val="000000"/>
                </a:solidFill>
                <a:latin typeface="Arial"/>
              </a:rPr>
              <a:t>, che rispondono a più obiettivi: valorizzare le potenzialità cicloturistiche, toccare i beni culturali più importanti, collegare fra loro i principali centri abitati, cogliere il grande momento di ritorno sportivo alla biciclet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inerari escursionistici a piedi</a:t>
            </a:r>
            <a:r>
              <a:rPr b="0" lang="en-US" sz="2000" spc="-1" strike="noStrike">
                <a:solidFill>
                  <a:srgbClr val="000000"/>
                </a:solidFill>
                <a:latin typeface="Arial"/>
              </a:rPr>
              <a:t>, la cui ambizione è di valorizzare le notevoli valenze ambientali ed escursionistiche delle zone rurali, proponendo un abbinamento "forte" fra escursionismo e cultu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inerari escursionistici via mare</a:t>
            </a:r>
            <a:r>
              <a:rPr b="0" lang="en-US" sz="2000" spc="-1" strike="noStrike">
                <a:solidFill>
                  <a:srgbClr val="000000"/>
                </a:solidFill>
                <a:latin typeface="Arial"/>
              </a:rPr>
              <a:t>, verso le isole e lungo la costa, che costituiscono l’alternativa al turismo balneare e consentono di coniugare la cultura (del mare, della pesca) con l’aspetto paesaggistico-ambientale impossibile da vivere con la sola balne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i di uno studio di fattibilità sugli attrattori turistici</a:t>
            </a:r>
            <a:endParaRPr b="0" lang="en-US" sz="3200" spc="-1" strike="noStrike">
              <a:solidFill>
                <a:srgbClr val="000000"/>
              </a:solidFill>
              <a:latin typeface="Arial"/>
            </a:endParaRPr>
          </a:p>
        </p:txBody>
      </p:sp>
      <p:sp>
        <p:nvSpPr>
          <p:cNvPr id="175" name="PlaceHolder 2"/>
          <p:cNvSpPr>
            <a:spLocks noGrp="1"/>
          </p:cNvSpPr>
          <p:nvPr>
            <p:ph/>
          </p:nvPr>
        </p:nvSpPr>
        <p:spPr>
          <a:xfrm>
            <a:off x="539280" y="1599840"/>
            <a:ext cx="8280360" cy="4708440"/>
          </a:xfrm>
          <a:prstGeom prst="rect">
            <a:avLst/>
          </a:prstGeom>
          <a:noFill/>
          <a:ln w="0">
            <a:noFill/>
          </a:ln>
        </p:spPr>
        <p:txBody>
          <a:bodyPr lIns="90000" rIns="90000" tIns="46800" bIns="46800" anchor="t">
            <a:normAutofit/>
          </a:bodyPr>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se 1: Analisi dello stato dell’arte su:</a:t>
            </a: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80880" indent="-380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trattori: loro stato d’uso e presenza di servizi ad essi correlati;</a:t>
            </a:r>
            <a:endParaRPr b="0" lang="en-US" sz="2200" spc="-1" strike="noStrike">
              <a:solidFill>
                <a:srgbClr val="000000"/>
              </a:solidFill>
              <a:latin typeface="Arial"/>
            </a:endParaRPr>
          </a:p>
          <a:p>
            <a:pPr marL="380880" indent="-380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iniziative di valorizzazione pubbliche e private in corso, connesse agli attrattori individuati nel punto “a”</a:t>
            </a:r>
            <a:endParaRPr b="0" lang="en-US" sz="2200" spc="-1" strike="noStrike">
              <a:solidFill>
                <a:srgbClr val="000000"/>
              </a:solidFill>
              <a:latin typeface="Arial"/>
            </a:endParaRPr>
          </a:p>
          <a:p>
            <a:pPr marL="380880" indent="-380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domanda potenziale, riferita ai segmenti di turisti intercettabili dagli attrattori, ovvero da potenziali attrattori;</a:t>
            </a:r>
            <a:endParaRPr b="0" lang="en-US" sz="2200" spc="-1" strike="noStrike">
              <a:solidFill>
                <a:srgbClr val="000000"/>
              </a:solidFill>
              <a:latin typeface="Arial"/>
            </a:endParaRPr>
          </a:p>
          <a:p>
            <a:pPr marL="380880" indent="-380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 offerta attuale (pacchetti turistici degli operatori locali), riferita agli attrattori;</a:t>
            </a:r>
            <a:endParaRPr b="0" lang="en-US" sz="2200" spc="-1" strike="noStrike">
              <a:solidFill>
                <a:srgbClr val="000000"/>
              </a:solidFill>
              <a:latin typeface="Arial"/>
            </a:endParaRPr>
          </a:p>
          <a:p>
            <a:pPr marL="380880" indent="-380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 suggerimenti dei principali tour operator sugli interventi necessari per migliorare la qualità dell’offerta.</a:t>
            </a:r>
            <a:endParaRPr b="0" lang="en-US" sz="2200" spc="-1" strike="noStrike">
              <a:solidFill>
                <a:srgbClr val="000000"/>
              </a:solidFill>
              <a:latin typeface="Arial"/>
            </a:endParaRPr>
          </a:p>
          <a:p>
            <a:pPr marL="380880" indent="-380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 analisi della concorrenza diretta e indiretta rispetto sia agli attrattori (uguali o simili) che rispetto al grado di penetrazione della domanda da parte di altre destinazioni turisti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i di uno studio di fattibilità sugli attrattori turistici</a:t>
            </a:r>
            <a:endParaRPr b="0" lang="en-US" sz="32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e 2: Definizione del piano strategico d’interv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utturato 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finizione del quadro strategico di valorizzazione degli attrattori nell’ambito del piano strategico per il turis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Definizione degli interventi operativi (sia hard, sulle infrastrutture, i trasporti, l’urbanistica, i beni culturali ecc., che soft sull’integrazione delle varie componenti dell’offerta, sulla formazione degli operatori ecc.) da realizzare per ciascun attrattore o gruppi di attrattor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Definizione dei possibili </a:t>
            </a:r>
            <a:r>
              <a:rPr b="0" i="1" lang="en-US" sz="2400" spc="-1" strike="noStrike">
                <a:solidFill>
                  <a:srgbClr val="000000"/>
                </a:solidFill>
                <a:latin typeface="Arial"/>
              </a:rPr>
              <a:t>slot </a:t>
            </a:r>
            <a:r>
              <a:rPr b="0" lang="en-US" sz="2400" spc="-1" strike="noStrike">
                <a:solidFill>
                  <a:srgbClr val="000000"/>
                </a:solidFill>
                <a:latin typeface="Arial"/>
              </a:rPr>
              <a:t>(pacchetti turistici chiavi in mano) connessi agli attrattor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i di uno studio di fattibilità sugli attrattori turistici</a:t>
            </a:r>
            <a:endParaRPr b="0" lang="en-US" sz="2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 della sostenibilità con gli attori local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i di uno studio di fattibilità sugli attrattori turistici</a:t>
            </a:r>
            <a:endParaRPr b="0" lang="en-US" sz="2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e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plan degli interven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tà e turism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sviluppo del turismo ha innesca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canismi di rafforzamento dell’identità d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ritorio utili 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coprire le tradizio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valutare le risorse del territor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l’economia del set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re alla luce tematiche quali ambiente, qualità della vita, abusivismo edilizio e scempio delle cos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iamento abitudini “consumo/fruizione” Turista</a:t>
            </a:r>
            <a:endParaRPr b="0" lang="en-US" sz="2800" spc="-1" strike="noStrike">
              <a:solidFill>
                <a:srgbClr val="000000"/>
              </a:solidFill>
              <a:latin typeface="Arial"/>
            </a:endParaRPr>
          </a:p>
        </p:txBody>
      </p:sp>
      <p:sp>
        <p:nvSpPr>
          <p:cNvPr id="56" name=""/>
          <p:cNvSpPr/>
          <p:nvPr/>
        </p:nvSpPr>
        <p:spPr>
          <a:xfrm>
            <a:off x="1062000" y="1219320"/>
            <a:ext cx="7018200" cy="40932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ff0000"/>
                </a:solidFill>
                <a:latin typeface="Arial"/>
                <a:ea typeface="ヒラギノ角ゴ Pro W3"/>
              </a:rPr>
              <a:t>Motivazioni Tradizionali</a:t>
            </a:r>
            <a:endParaRPr b="0" lang="en-US" sz="2000" spc="-1" strike="noStrike">
              <a:solidFill>
                <a:srgbClr val="000000"/>
              </a:solidFill>
              <a:latin typeface="Arial"/>
            </a:endParaRPr>
          </a:p>
        </p:txBody>
      </p:sp>
      <p:sp>
        <p:nvSpPr>
          <p:cNvPr id="57" name="PlaceHolder 2"/>
          <p:cNvSpPr>
            <a:spLocks noGrp="1"/>
          </p:cNvSpPr>
          <p:nvPr>
            <p:ph/>
          </p:nvPr>
        </p:nvSpPr>
        <p:spPr>
          <a:xfrm>
            <a:off x="1042920" y="1699920"/>
            <a:ext cx="7018560" cy="431640"/>
          </a:xfrm>
          <a:prstGeom prst="rect">
            <a:avLst/>
          </a:prstGeom>
          <a:noFill/>
          <a:ln w="0">
            <a:noFill/>
          </a:ln>
        </p:spPr>
        <p:txBody>
          <a:bodyPr lIns="0" rIns="0" tIns="0" bIns="0" anchor="t">
            <a:normAutofit fontScale="88000"/>
          </a:bodyPr>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000" spc="-1" strike="noStrike">
                <a:solidFill>
                  <a:srgbClr val="000000"/>
                </a:solidFill>
                <a:latin typeface="Arial"/>
              </a:rPr>
              <a:t>(Mare - Montagna)</a:t>
            </a:r>
            <a:endParaRPr b="0" lang="en-US" sz="2000" spc="-1" strike="noStrike">
              <a:solidFill>
                <a:srgbClr val="000000"/>
              </a:solidFill>
              <a:latin typeface="Arial"/>
            </a:endParaRPr>
          </a:p>
        </p:txBody>
      </p:sp>
      <p:sp>
        <p:nvSpPr>
          <p:cNvPr id="58" name=""/>
          <p:cNvSpPr/>
          <p:nvPr/>
        </p:nvSpPr>
        <p:spPr>
          <a:xfrm>
            <a:off x="1908000" y="3141720"/>
            <a:ext cx="5256360" cy="72072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ctr">
            <a:normAutofit/>
          </a:bodyPr>
          <a:p>
            <a:pPr marL="343080" indent="-34308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ea typeface="Arial"/>
              </a:rPr>
              <a:t>Motivazioni “minori”</a:t>
            </a:r>
            <a:endParaRPr b="0" lang="en-US" sz="2000" spc="-1" strike="noStrike">
              <a:solidFill>
                <a:srgbClr val="000000"/>
              </a:solidFill>
              <a:latin typeface="Arial"/>
            </a:endParaRPr>
          </a:p>
          <a:p>
            <a:pPr marL="343080" indent="-34308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Cultura - Enogastronomia – Benessere)</a:t>
            </a:r>
            <a:endParaRPr b="0" lang="en-US" sz="2000" spc="-1" strike="noStrike">
              <a:solidFill>
                <a:srgbClr val="000000"/>
              </a:solidFill>
              <a:latin typeface="Arial"/>
            </a:endParaRPr>
          </a:p>
        </p:txBody>
      </p:sp>
      <p:sp>
        <p:nvSpPr>
          <p:cNvPr id="59" name=""/>
          <p:cNvSpPr/>
          <p:nvPr/>
        </p:nvSpPr>
        <p:spPr>
          <a:xfrm>
            <a:off x="1908000" y="5013360"/>
            <a:ext cx="5256360" cy="790560"/>
          </a:xfrm>
          <a:prstGeom prst="rect">
            <a:avLst/>
          </a:prstGeom>
          <a:solidFill>
            <a:srgbClr val="ffffff"/>
          </a:solidFill>
          <a:ln w="3240">
            <a:solidFill>
              <a:srgbClr val="c4c4c4"/>
            </a:solidFill>
            <a:miter/>
          </a:ln>
        </p:spPr>
        <p:style>
          <a:lnRef idx="0"/>
          <a:fillRef idx="0"/>
          <a:effectRef idx="0"/>
          <a:fontRef idx="minor"/>
        </p:style>
        <p:txBody>
          <a:bodyPr lIns="90000" rIns="90000" tIns="46800" bIns="46800" anchor="ctr">
            <a:normAutofit/>
          </a:bodyPr>
          <a:p>
            <a:pPr marL="343080" indent="-34308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Prodotto/Servizio turistico nuovo</a:t>
            </a:r>
            <a:endParaRPr b="0" lang="en-US" sz="2000" spc="-1" strike="noStrike">
              <a:solidFill>
                <a:srgbClr val="000000"/>
              </a:solidFill>
              <a:latin typeface="Arial"/>
            </a:endParaRPr>
          </a:p>
          <a:p>
            <a:pPr marL="343080" indent="-343080" algn="ctr">
              <a:lnSpc>
                <a:spcPct val="6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Valorizzazione Patrimonio Culturale)</a:t>
            </a:r>
            <a:endParaRPr b="0" lang="en-US" sz="2000" spc="-1" strike="noStrike">
              <a:solidFill>
                <a:srgbClr val="000000"/>
              </a:solidFill>
              <a:latin typeface="Arial"/>
            </a:endParaRPr>
          </a:p>
        </p:txBody>
      </p:sp>
      <p:sp>
        <p:nvSpPr>
          <p:cNvPr id="60" name=""/>
          <p:cNvSpPr/>
          <p:nvPr/>
        </p:nvSpPr>
        <p:spPr>
          <a:xfrm>
            <a:off x="4572000" y="2276640"/>
            <a:ext cx="0" cy="695160"/>
          </a:xfrm>
          <a:prstGeom prst="line">
            <a:avLst/>
          </a:prstGeom>
          <a:ln w="50760">
            <a:solidFill>
              <a:srgbClr val="c4c4c4"/>
            </a:solidFill>
            <a:miter/>
            <a:tailEnd len="med" type="triangle" w="med"/>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61" name=""/>
          <p:cNvSpPr/>
          <p:nvPr/>
        </p:nvSpPr>
        <p:spPr>
          <a:xfrm>
            <a:off x="4572000" y="4005360"/>
            <a:ext cx="0" cy="838080"/>
          </a:xfrm>
          <a:prstGeom prst="line">
            <a:avLst/>
          </a:prstGeom>
          <a:ln w="50760">
            <a:solidFill>
              <a:srgbClr val="c4c4c4"/>
            </a:solidFill>
            <a:miter/>
            <a:tailEnd len="med" type="triangle" w="med"/>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ovi Turismi : situazione strutturale o transitoria?</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e vicine al paese di provenienz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zzi di trasporto alternativi all’aere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a crescente della sicurezz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anze più brevi e frequen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o dei Last – minu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chetti turistici personalizza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anze che comprendono proposte integrative (culturali, ambientali, spor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0:13:32Z</dcterms:created>
  <dc:creator>Luca Caputo</dc:creator>
  <dc:description/>
  <dc:language>en-US</dc:language>
  <cp:lastModifiedBy>Luca Caputo</cp:lastModifiedBy>
  <dcterms:modified xsi:type="dcterms:W3CDTF">2008-12-04T08:18:53Z</dcterms:modified>
  <cp:revision>6</cp:revision>
  <dc:subject/>
  <dc:title>Diapositiva 1</dc:title>
</cp:coreProperties>
</file>