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4E0D-3B2F-438D-8A26-34BB8B67172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9DC4-D922-407E-812E-C56F2E6F60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343-3EB1-494E-98A9-19B52F0F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71C-6B8E-4908-B8C9-40E42F94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F1A-AC74-4D20-B71A-B4666EC5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A80-5B45-4272-ADAE-E75E1CB6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EB2-11D7-4010-9BBB-1EB52589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3E2-356E-4B56-8782-EB22072C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0C8-1769-424B-8098-7D6C9568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FBC-A12E-4C98-9E34-53410FFA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74A-4F3B-4341-A9C5-0F5C3A2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565-6108-474D-B83C-096D3AF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707-5C9B-422D-90F9-E69FF884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37C-C2DB-42C8-B457-1A7B4A22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533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40D4-C39A-4ED6-96F0-D7A76D287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136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 ricerca sociale e il territorio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l q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484280"/>
            <a:ext cx="8147160" cy="1081080"/>
          </a:xfrm>
          <a:prstGeom prst="rect">
            <a:avLst/>
          </a:prstGeom>
          <a:noFill/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CIOLOGIA DELL’AMBIENTE E DEL TERRITORI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ienze politiche e delle Relazioni internazionali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f. Marco Manca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869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.A. 2008-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9960" y="228600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rebuchet MS"/>
              </a:rPr>
              <a:t>Il questio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oti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.A. 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rumenti di ri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209680"/>
            <a:ext cx="7086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– Questionario standardizzato (surv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oti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.A. 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rmulazione domande di un questionario (suggerim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Semplicità di lingu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86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Lunghezza delle dom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09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Numero delle alternative di ri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Espressioni in ge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562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Definizioni amb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914400"/>
            <a:ext cx="4800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Molti esperti ritengono che la “carcerazione preventiva sia di grande utilità alla cittadinanza perché impedisce potenziali crimini. Lei è favorevole?”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286000"/>
            <a:ext cx="4800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Come lei sa ci sono opinioni diverse sull’opportunità di…”, C’è chi pensa che..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I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Lei è favorevole o contrario a…..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4864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Il suo lavoro è stabile?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ABILITA’: concetto ambiguo (è stabile una supplenza annuale? Un contratto rinnovabile di anno in anno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oti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.A. 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rmulazione domande di un questionario (suggerim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Domande con risposta non univ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Parole dal forte connotato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0574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Domande sintatticamente complesse (o doppia neg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914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Lei picchia il figlio?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concetti come “delinquente, crimina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2057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Mi dica se è d’accordo o contrario alla seguente affermazione: non è vero che gli operai stiano così male come dicono i sindaca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4290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I suoi genitori erano religiosi?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 se il padre e la madre avessero un orientamento differen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4343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Ritiene che la politica del governo sia giusta ed efficac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49528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Lei è favorevole o contrario all’aborto?”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i sono molti casi diversi (pericolo di vita, malformazione del feto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oti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.A. 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rmulazione domande di un questionario (suggerim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Domande non discrim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Domande tendenzi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9144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Di quale tra i seguenti gruppi di persone lei si fida maggiormente?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on includere ‘propri familiari’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n quale dei seguenti paesi si vive meglio?”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on includere il proprio pa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Ci sono 500 preti francesi che hanno detto che il Vangelo è un messaggio per 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ve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gl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frutta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per ques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ivono poveramen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vorano in fabbr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i danno da fare p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iut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 lavoratori a maggior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quiste socia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Crede che questi preti facciano ben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3962520"/>
            <a:ext cx="50292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ltra form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ettere le alternative possi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uni pensano che le donne dovrebbero avere nella società una posizione uguale a quella degli uomini nel dirigere uffici, nel guidare le industrie e ricoprire cariche pubbliche. Altri pensano che il posto della donna sia a casa e che il loro compito principale sia allevare i figli. Con quale delle due opinione lei è d’accordo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oti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.A. 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rmulazione domande di un questionario (suggerim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8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Comportamenti presu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5146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Focalizzazione nel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6858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edere ad un intervistato per chi ha votato alle ultime elezioni, senza prima avergli chiesto se è andato a votare (domanda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4382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Quante volte va al cinema al mese?”, “Con che frequenza lei abitualmente legge il giornale?”, “Quale era l’occupazione di suo padr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657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I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Quale era l’occupazione di suo padre quando lei aveva 10 anni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Comportamenti e atteggia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457200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artecipazione polit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si tiene al corrente con la politica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I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legge le notizie politiche sui gior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ologia dell'ambiente e del terrioti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.A. 2008-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1:26:14Z</dcterms:created>
  <dc:creator>Cinzia Camere</dc:creator>
  <dc:description/>
  <cp:keywords>Sociologia della comunicazione metodologia ricerca sociale Crema CRcorso didattica</cp:keywords>
  <dc:language>en-US</dc:language>
  <cp:lastModifiedBy>Luigi Di Viggiano</cp:lastModifiedBy>
  <dcterms:modified xsi:type="dcterms:W3CDTF">2008-11-19T14:48:59Z</dcterms:modified>
  <cp:revision>19</cp:revision>
  <dc:subject>Sociologia della comunicazione a.a. 2004-05</dc:subject>
  <dc:title>Metodologia della ricerca sociale - Il questionario</dc:title>
</cp:coreProperties>
</file>