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F40D-2AA9-44B8-874A-000CAC85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1EFE-B14D-4A41-8B06-2741CCF7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D7B1-F79B-4080-857B-566DF6E9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146B-E983-4BDA-81C4-EDA4CA1D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6DA8-1133-46B0-988A-9907737F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0650-95F0-4096-AAA8-41E26C96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2E34-E85C-4958-B910-24BC2687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ED23-4751-43F5-BB83-BC8595BF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7D0-E366-4D9C-9021-77B4E19F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207A-8AD3-4A30-8204-6D3A33C1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B4D-6CC8-4F79-B57B-397E4201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DD96-E720-4368-A04A-6B7BA2EA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8D8D-76E5-4473-91E7-A8B66CA3C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olog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l’Ambiente e del Territ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49840"/>
            <a:ext cx="64008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ostenibilità ambien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el Sal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87640" y="404640"/>
            <a:ext cx="30099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tuazione generale in It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71640" y="1217520"/>
            <a:ext cx="72738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ituazione nelle province lecce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1214280"/>
            <a:ext cx="705816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rafico impianti eolici in Pug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42920" y="1284120"/>
            <a:ext cx="7058160" cy="53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riticità dell’eol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tti cumula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tti su ambiente e paesaggio (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a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isiv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minaccia per il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mbien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ità di salvaguardia dell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i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ratteri stor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ediativi e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lezze natur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riticità dell’eol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bancamenti per la realizzazione di pi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cavido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odifica/disturbo ad </a:t>
            </a:r>
            <a:r>
              <a:rPr b="0" lang="it-IT" sz="3200" spc="-1" strike="noStrike">
                <a:solidFill>
                  <a:srgbClr val="0000ff"/>
                </a:solidFill>
                <a:latin typeface="Arial"/>
              </a:rPr>
              <a:t>ha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umore (</a:t>
            </a:r>
            <a:r>
              <a:rPr b="0" lang="it-IT" sz="3200" spc="-1" strike="noStrike">
                <a:solidFill>
                  <a:srgbClr val="0000ff"/>
                </a:solidFill>
                <a:latin typeface="Arial"/>
              </a:rPr>
              <a:t>10/12 dB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mpatto elettromagne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estione degli oli esau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sempi di eolico nel Sal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76360" y="2491920"/>
            <a:ext cx="260172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c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2214720" cy="2952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300720" y="1484280"/>
            <a:ext cx="2610000" cy="3048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3132000" y="3645000"/>
            <a:ext cx="122400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08720" y="278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olico a Specch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60 K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a 50 met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unzione da novembre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zzati fino ad oggi 900.000 K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vuti 90.000 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mministrazione intende installare altre 4 p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olico a Specch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mministrazione comunale int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zzare una società ad 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ellando i cittadini che volessero ent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r parte della società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 sito del comune è possibile inviar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nda per entrare nella costitue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età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olico a Sur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ia a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3mila famig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8 turb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6 M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er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ecce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è il nome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unzione da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rzo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olico a Sur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6020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uglia è la Regione che ha registrato il più alto tasso di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rescita della domanda di energ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l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ci son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anni all’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viterà l’emissione in atmosfera di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1mila tonnellate di CO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’an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ogetti di sostenibilità ambientale nel Sal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0920" y="2781360"/>
            <a:ext cx="52675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xi Pila del Sal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entrale a Biom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ianti ad energia eo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nclus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mbiente,inteso nella sua acce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ù ampia di sistema composto da b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istici, paesaggistici e storico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i, rappresenta una risorsa en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lo sviluppo economico, social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pazionale delle comunità loca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 non per guadagni in tempi brevi e 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hi eletti o, se si preferisce, per d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i e posticipati per mol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fortunat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a Maxi Pila del Sal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uglia è una Regione caratterizzata in abbondanza da tre elementi natur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cq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zie a questi fattori, la Puglia potrebbe diventare la “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ila d’Ital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a Maxi Pila del Sal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primo grande parco fotovoltaico dovrebbe nascere a Brindisi dove sorgeva l’ex petrolchim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9 etta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 estens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1 M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 energia elettrica, presto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2 M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nte elettrica a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6mila pers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irca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7mila famig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o mediterraneo per la ricerca sul fotovoltaico in stretta collaborazione con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’Università del Sal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a Maxi Pila del Sal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1500120"/>
            <a:ext cx="75614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entrale a Bioma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etto per la realizzazione di una centrale a biomasse nel Sal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domanda sorge spontan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quinereb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a centrale a biomas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quivalente di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00 autovet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entrale a Bioma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caratteristiche della centr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mentata ad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li veget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zione energetica pari a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5 M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o dei compiti più importanti è quello di tenere sotto control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issione di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ssidi d’azo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idride carbo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entrale a Bioma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81280" y="1486080"/>
            <a:ext cx="36720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mpianti eolici nel Sal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6020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olico rappresenta ormai una realtà forte per il nostro territo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due schieramenti su questo t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vorevole alla presenza dell’eolico (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mministrazioni comuna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favorevole all’eolico (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ittadi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0:10:29Z</dcterms:created>
  <dc:creator>MARCO PALMA</dc:creator>
  <dc:description/>
  <dc:language>en-US</dc:language>
  <cp:lastModifiedBy>MARCO PALMA</cp:lastModifiedBy>
  <dcterms:modified xsi:type="dcterms:W3CDTF">2008-11-06T11:32:49Z</dcterms:modified>
  <cp:revision>3</cp:revision>
  <dc:subject/>
  <dc:title>Sociologia dell’Ambiente e del Territorio</dc:title>
</cp:coreProperties>
</file>