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659-460A-4FB2-B6E2-AB67E312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A3B-A269-4FAD-AE01-CD88BED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D67-CF0F-4228-A579-8956DCF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5DC-BEC4-471B-A35D-4C97DDBF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577-52A7-4EF3-A969-260D7E0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E8F-3403-42C8-B1CA-FC558ECA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625-DE30-4059-B918-AEF9EF1D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8B9-E326-4C86-90B5-4A32EDCC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52A-5729-48E9-AC41-50E7015E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83E-7BE8-43D6-B781-6AC9734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99B-AF60-4D3A-AD69-D1409DD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C41-6924-4F6E-A940-F5C40D1C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07F1-9D95-46AE-828D-415232224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luca.caputo@unitelma.it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ologia dell’ambiente e del terr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uca Caputo – Lecce, 3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so di Laurea in Scienze Politiche e delle Relazioni Internazionali – Scienze della Comunicazione  A.A. 200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guenze competizione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amento delle gerarchie geografiche: accesso alla conoscenza dei territori più deb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correnza non più tra regioni simili ma tra regioni con la stess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pirazi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in grado di soddisfare benefici richiesti dalla domanda di merc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aspirazioni di un terr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e complem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e focalizzata su distr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e aspirant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torio e i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zione e relazioni di s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ustifica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fora del territori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dozione d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ategie di mark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la gestione de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otto territoriale allarg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 materiale: infrastrutture 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 immateriale: immagine, accesso all’informazione, know-how, servizi offe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basi del vantaggio competi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duc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ource e knowledge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Product 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zione e potenziamento di do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t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pari requisiti, nessuna differenz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i che producono vantaggi di breve per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 Resource e Knowledge ba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risorse del territorio fonte di vant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o poich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ggono caratteristiche di unicità (non imitabili, replicabi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o immediatamente utilizz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à e immagine territo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ò che si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modo in cui siamo visti – vorremmo essere v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à territo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ono le caratteristiche del terri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f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nditor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gine territo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“vendiam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ta corrisponde alla doma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o e come si “ascoltano” le esigen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siamo e cosa aspiriamo ad ess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e ci percepisce il mercato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sizionamen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cere la sfida: comunicare quello che il cliente (imprenditore, residente, turista) vuole sapere, nel linguaggio che il cliente conos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di Marketing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marketing territorial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blici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chi “vendiam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i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vest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ur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t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omio attrattività - va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marketing del territorio si sviluppa 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o ed esterno, tr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rattivit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blici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categorie dei pubblici di riferi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akeholder (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ienti / Mercati (es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mministratori del territorio (Policy Ma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tori di interessi rilev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e del territorio e soddisfazione stake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ti, lavoratori e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e esistenti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i / Merc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ore comune è l’attrattività de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ori di beni e servizi (turismo, affari, sh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ziali imprese / resi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nificano e gestiscono il territorio 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obiettivo d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re la soddisf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rescere l’attr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olo virtu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ddisf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ttr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amo il Marketing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arketing territoriale s’intend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arketing territoriale s’intende l’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isogni territoriali e la costruzione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zioni di scambio con i pubblici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ferimento con lo scopo di aumentare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e e l’attrattività di un terri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lta di marketing strate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le dei due pubblici – interno ed esterno – mi rivo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obiettivo persegu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ole chi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obalizz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etitività ter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w Publ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dentità e vocazione territori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trattività, soddisfazione e va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unti di forza e debol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i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e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strategico territoriale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strategico territoriale es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ing strategico territoriale int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ari: clienti inte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iettivi: valorizzazione dell’esistente, incremento della soddisfazione e fiducia 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ing strategico territoriale est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ari: clienti este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iettivi: attrazione e generazione della fidu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velli di marketing territo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del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urb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ur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delle impr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ta integrata di infrastrutture e ser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disfazione e fedeltà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vità imprese / cli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e urb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tadini fed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tadini soddisfa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tur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e cit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isti soddisfatti e fed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ta integrata di strutture e servizi turis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punto di vista del cliente: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Value for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vantaggio ottengo a fronte del prezzo che p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valore ottengo sull’investimento fa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zione manage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territorio ha uno stock iniziale di 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valore che i pubblici gli attribuisc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i amministratori del territorio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iluppare congiuntamente marketing interno ed es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iluppare un’attività di monitoragg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struzione di un piano strategico di marketing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zione degli obiettivi e linee d’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og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mensionamento centralità degli Stati a favore delle autonomie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ocalizzazione produt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ertura e internazionalizzazione dei merc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immaterialità trans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zione tecnolo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tà dell’in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ano marketing territoriale est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i ruoli, compiti e “desiderata” del cliente interno: ascolto d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: definire aree territoriali per attuare politiche omoge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i della concor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zione delle forze / debolezze di un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zione mercato e target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i “desiderata” cliente 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zione pacchetto d’offerta (incentivi, manodopera, consul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zione e commercial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ano di marketing territoriale int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olto dei residenti (bisogni, soddisfazione, miglior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olto del territorio (inventario risorse, servizi e infrastrut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urazione del gap tra territorio e resi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zione obiettivi e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ioni e politiche di marketing terri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: buone pr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unicazione in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ia marketing territori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o di tutti gli a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parenza di tutti gli interessi in gi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immagine di un territorio è fondam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attivo della cittadinanza nei processi decisionali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rafforzamento del senso di appartenenza terri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unicazione es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di un'identità è indispensabile per po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re un’immagine del territorio original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orre saper comunicare sinteticamente l'identità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pecificità locali, caratteristiche economiche, socia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ali e culturali che la rendono un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quanto riguarda in particolare l'offerta localizzativ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torio, l'esistenza di opportunità vantaggiose 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cura automaticamente la presenza di op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i capaci di sfruttarle: è fondamentale attiv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’efficace ed efficien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rcolazione del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ruolo delle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zione del mer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olo delle 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formation and Communication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(ICT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uno dei fattori abilitanti per lo svilupp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prattutto per la loro capacità d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teg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mbienti (e soggetti) diversi, senza intac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l’autonom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se rendono il sistema più efficiente, p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etitivo e possono dare visibilità a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plice ru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ICT rivestono un duplice ru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mento di 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mento comunicazione/promo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mento di gesti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e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antiscono maggiore efficacia/effici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a gestione interna dell’organizzazi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rattutto in settori ad “alta intens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v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competitiv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ICT sono in grado di rafforzar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ità in termini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z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parmio di c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parmio di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comunicazione / promo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mento di comunicazion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mo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ICT consentono di miglio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qualità e la quantità dell’in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nibile per gli attori del merca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endone la diffusione e riducendo la c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immetria inf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sfide più importanti connesse con 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izzazione non si esauriscono dentro 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lo di globalizzazione per sé, ma n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à di declinare su scala globale alt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i, di norma strettamente collegati 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o specifico contesto territoriale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artya 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mio Nobel per l’econo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asimmetria inform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tti di una riduzione dell’asimme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a nella comunica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uzione dell’incertezza nel rapporto domanda – offerta (aumento fidu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olo alla generazione di rapporti rel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zione di network (anche e soprattutto virtuali) allargati per condividere informazioni relative al mercato, che avvicinano l’offerta alle reali esigenze della do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twork virtuali incoraggiano lo svilupp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collaborative, contribuendo a struttu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’offerta territoriale completa e competi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liminazione di barriere spaziali e temporali 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zazione del prodotto/servizio producono 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tto moltiplicatore innescando dinamich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o di arricchire l’offerta con elementi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rimenti sarebbero di difficile gest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do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 punto di vista della domanda, se u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ttamente, gli strumenti tecnolog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tono scelte più informate,consapevo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mirate che, se supportate da un’of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ionale, incontrano magg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disfazione nel consum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ndone la “fedelt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esempio: ICT e Tur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CT impattano sul grado di consapevolezza da parte 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isti rispetto all’esistenza, alla peculiarità e all’im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a località, offrendo ulteriori informazioni utili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ziale soggiorno (presenza di attrattori cultura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orsi, eventi, presenza di strutture ricettive adegu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zi, ora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loro ruolo è dunque cruciale nel rapporto con q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blico che ricorre alle tecnologie informatiche 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comunicazione come fase essenziale di conoscenz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scelta iniz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esempio, la costruzione di un sito web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ornitura di contenuti per sistemi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fonia mobile di terza generazione (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mari) che abbiano caratteristiche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à, rappresenta un fattore critic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o per la destinazione, in qu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damentale interfaccia con i tur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724280"/>
            <a:ext cx="1752840" cy="114300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7760" y="5009400"/>
            <a:ext cx="913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c"/>
                </a:solidFill>
                <a:latin typeface="Verdana"/>
                <a:ea typeface="ヒラギノ角ゴ Pro W3"/>
              </a:rPr>
              <a:t>SET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c"/>
                </a:solidFill>
                <a:latin typeface="Verdana"/>
                <a:ea typeface="ヒラギノ角ゴ Pro W3"/>
              </a:rPr>
              <a:t>PUB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5084640"/>
            <a:ext cx="3097080" cy="505080"/>
          </a:xfrm>
          <a:prstGeom prst="rect">
            <a:avLst/>
          </a:prstGeom>
          <a:solidFill>
            <a:srgbClr val="ffffff"/>
          </a:solidFill>
          <a:ln w="3240">
            <a:solidFill>
              <a:srgbClr val="013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uscotto Manageriale (Monitoragg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581360"/>
            <a:ext cx="3097080" cy="376560"/>
          </a:xfrm>
          <a:prstGeom prst="rect">
            <a:avLst/>
          </a:prstGeom>
          <a:solidFill>
            <a:srgbClr val="ffffff"/>
          </a:solidFill>
          <a:ln w="3240">
            <a:solidFill>
              <a:srgbClr val="013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Sistemi Informativi (G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743200"/>
            <a:ext cx="2438280" cy="1295280"/>
          </a:xfrm>
          <a:prstGeom prst="ellipse">
            <a:avLst/>
          </a:prstGeom>
          <a:noFill/>
          <a:ln w="12600">
            <a:solidFill>
              <a:srgbClr val="c4c4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1413000"/>
            <a:ext cx="1295280" cy="0"/>
          </a:xfrm>
          <a:prstGeom prst="line">
            <a:avLst/>
          </a:prstGeom>
          <a:ln w="12600">
            <a:solidFill>
              <a:srgbClr val="c4c4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0675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b1516"/>
                </a:solidFill>
                <a:latin typeface="Verdana"/>
                <a:ea typeface="ヒラギノ角ゴ Pro W3"/>
              </a:rPr>
              <a:t>S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b1516"/>
                </a:solidFill>
                <a:latin typeface="Verdana"/>
                <a:ea typeface="ヒラギノ角ゴ Pro W3"/>
              </a:rPr>
              <a:t>PRI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1197000"/>
            <a:ext cx="2519280" cy="74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Raccolta da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(Data warehou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/>
          <p:nvPr/>
        </p:nvCxnSpPr>
        <p:spPr>
          <a:xfrm flipV="1">
            <a:off x="4800600" y="1751760"/>
            <a:ext cx="930960" cy="947160"/>
          </a:xfrm>
          <a:prstGeom prst="straightConnector1">
            <a:avLst/>
          </a:prstGeom>
          <a:ln w="3240">
            <a:solidFill>
              <a:srgbClr val="013c5c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900000" y="1773360"/>
            <a:ext cx="0" cy="3527280"/>
          </a:xfrm>
          <a:prstGeom prst="line">
            <a:avLst/>
          </a:prstGeom>
          <a:ln w="9360">
            <a:solidFill>
              <a:srgbClr val="013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00640"/>
            <a:ext cx="541440" cy="0"/>
          </a:xfrm>
          <a:prstGeom prst="line">
            <a:avLst/>
          </a:prstGeom>
          <a:ln w="9360">
            <a:solidFill>
              <a:srgbClr val="013c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5295960"/>
            <a:ext cx="838080" cy="0"/>
          </a:xfrm>
          <a:prstGeom prst="line">
            <a:avLst/>
          </a:prstGeom>
          <a:ln w="50760">
            <a:solidFill>
              <a:srgbClr val="c4c4c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3357720"/>
            <a:ext cx="457200" cy="0"/>
          </a:xfrm>
          <a:prstGeom prst="line">
            <a:avLst/>
          </a:prstGeom>
          <a:ln w="3240">
            <a:solidFill>
              <a:srgbClr val="013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068640"/>
            <a:ext cx="2519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Pagamenti telema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2133720"/>
            <a:ext cx="2736720" cy="79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Customizzazione off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(Data mi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 flipH="1">
            <a:off x="5363640" y="2565360"/>
            <a:ext cx="472320" cy="348480"/>
          </a:xfrm>
          <a:prstGeom prst="straightConnector1">
            <a:avLst/>
          </a:prstGeom>
          <a:ln w="3240">
            <a:solidFill>
              <a:srgbClr val="013c5c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211640" y="1413000"/>
            <a:ext cx="0" cy="1224000"/>
          </a:xfrm>
          <a:prstGeom prst="line">
            <a:avLst/>
          </a:prstGeom>
          <a:ln w="12600">
            <a:solidFill>
              <a:srgbClr val="c4c4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5661000"/>
            <a:ext cx="3097080" cy="360360"/>
          </a:xfrm>
          <a:prstGeom prst="rect">
            <a:avLst/>
          </a:prstGeom>
          <a:solidFill>
            <a:srgbClr val="ffffff"/>
          </a:solidFill>
          <a:ln w="3240">
            <a:solidFill>
              <a:srgbClr val="013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mart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la raccolta di dati e informazioni int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esterne all’azienda attraverso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tratta dell’impiego di database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nno procedure e applicazioni in grad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dentificar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relazioni tra i 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ccolti, in modo da poter creare adeg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fili di clienti (turisti) con interessi e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uni, sui quali realizzare offerte ad hoc (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ustomizza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amenti tele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solo la ricerca di informazioni, ma anche 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o dell’acquisto vero e proprio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otto/servizio (il pacchetto turistico) avvien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 telema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istono ancora delle remore legate ai pag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atici (soprattutto per questioni di sicurezza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il numero di transazioni on-line è s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ù cresc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sibilità di acquisire e gestire (data warehousing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ining) a basso costo un numero eleva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zioni sul cliente, congiuntamente alla ri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a dei costi di personalizzazione dell’offerta, 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a realizzazione di strategie “cliente-centrich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mbito di business tende ad allargarsi, sia in ter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fici sia in termini di segmento: si cre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tà di molte opzioni (anche tecnolog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to dissimili) per soddisfare la stessa categoria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og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ova centralità della dimensione territoriale e lo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o cent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territoria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tore compet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 sviluppo locale chiave di volta per un successo di portata glob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settore pubb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 punto di vista del Settore pubblico,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 consentono la gestione operativa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i in grado di governare in man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a, efficace ed efficiente i div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e ambiti delle 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settore pubb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stemi Informativi (G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n GIS, gli elementi di tipo geografico vengono assoc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ati strutturati o informazioni e documenti multimed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uti in uno o più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quasi tutti i prodotti GIS esistono oggi versioni usabili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te (c.d.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ebG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che estendono all’ambient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lte delle funzionalità proprie dei GIS tradiz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oro diffusione ne dimostra l’efficacia come su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politiche di pianificazione, gestione e deci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e gest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scotto manage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e definito così un sistema informativo in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sviluppare una costante rilevazione d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orse, in modo da tenere sotto controllo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ia di indicatori più opportuni per il govern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terr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o un efficiente ed efficace monito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nte azioni di controllo e di miglio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e long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web ha cambiato le regole del mercato, perché è un canale di vendita e distribuzione potenzialmente infinito, in grado di raggiungere utenti sparsi in tutto il mondo, peraltro a costi relativamente bass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oria della lunga coda spiega quindi come da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cato di m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i stia muovendo verso u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a di mercati di nicch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e si può rappresentare graficamente con una lunga coda sull'asse delle ordinate (x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long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2152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56599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 "PhocusWright Conference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o fenomeno economico è reso possib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a dall'abbondanza di spazio, offerta, scelta e distribuzione per gran parte dei prodo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a dall'affermazione del web sociale, frutto della condivisione e della coproduzione di contenuti e riso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parole d'ordine di questi anni, per tutte q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altà che hanno una loro presenza on line,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sono riassumere nel motto 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ke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vailable and help me find i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”: mettimi tutto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sposizione e aiutami a trovarl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tail ed econo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’economia della lunga coda la somma delle nicchie è significativa come o più della somma dei players dominanti, perché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the long tail is about selling less of more“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vendere tante piccole cos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olo dei policy ma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re attività di marketing terri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re nelle competenze professionali e favorirne l’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vorire accesso, utilizzo e sviluppo di “conoscenz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re nell’identità (Tradi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re in infrastrut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uca.caputo@unitelma.i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zione tra terri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zione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diamenti produ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e di ser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e 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ublic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zione dei principi e delle tec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i alle Pubbliche Amministrazion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l’organizzazione interna alla gestione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ublic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assaggio da un modell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rocratico) ad un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nomico – aziend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a logica di servizio pub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1:43:03Z</dcterms:created>
  <dc:creator>SheenxP</dc:creator>
  <dc:description/>
  <dc:language>en-US</dc:language>
  <cp:lastModifiedBy>Luca Caputo</cp:lastModifiedBy>
  <dcterms:modified xsi:type="dcterms:W3CDTF">2008-12-04T08:19:43Z</dcterms:modified>
  <cp:revision>21</cp:revision>
  <dc:subject/>
  <dc:title>Sociologia dell’ambiente e del territorio</dc:title>
</cp:coreProperties>
</file>