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DD3-C2E1-4708-814E-A5BD9074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A84-6EF1-450F-9E15-E9E1AC9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B98-5D71-42C5-AF64-C39134DE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103-C580-4FC3-BD0F-207E5991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B503-DBC8-4D71-AE33-A18FF21D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7440-027A-4F46-9769-E8C7C3BD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3886-E62F-41F0-993B-A92E48F1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CB8C-BE29-4E63-8D41-217D8EC7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EC66-6DF6-43DD-A34E-D3E6D0DB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9E99-74F0-437F-BB91-1C050263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71B9-A11B-445D-B6DE-102C9D24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3B2-7F14-4452-9FC3-FC2670CB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75A4-DD7D-4F35-A710-71162C6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BE13-B88C-428B-8751-2FA01737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CA67-DA86-4AFE-B21B-9F7C6646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8391-C370-4646-911D-DE487980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2EA0-310E-4B7F-AA39-E31530DE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FB3B-6299-4EBA-89C8-1AC2D219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94B4-EB20-4F36-BE66-34B3B14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40D9-BF93-4818-83EB-C81D3D6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F300-A5B4-475A-953C-85493305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6148-DDF4-4536-904A-5A312886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44A-2754-44EE-BDD1-816935E0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68D4-BAB7-4802-909C-0685FBAF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6511-0460-4155-A113-8129E6A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6A29-CE82-4195-AD81-73F715F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6BD6-3F7E-4F88-A413-9382F45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68DA-DB0E-40C0-94F2-9C757E82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EDA4-F0D1-45BB-9702-625271C8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56BD-3324-440D-A5E5-6A63211B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5F8-0064-4352-B4C5-1B7A7A94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88D-9274-49E1-93B4-C4D1C860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2FD-1288-41C0-9313-2C8CFE3E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AAA-01FF-4FBE-B777-B1DA6F3A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8DE-ABC7-439F-A7E9-CBBA8E23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B0F-33B1-46B4-8BA4-C5B709D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5898-65CA-40EA-965F-B6E1634EF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4B4C-FE2B-4298-BEE5-B8E2A89AE3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F66B-3A2A-41CD-8341-94A30A09E1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t.wikipedia.org/wiki/Software_libero" TargetMode="External"/><Relationship Id="rId2" Type="http://schemas.openxmlformats.org/officeDocument/2006/relationships/hyperlink" Target="http://it.wikipedia.org/wiki/Sistema_operativo" TargetMode="External"/><Relationship Id="rId3" Type="http://schemas.openxmlformats.org/officeDocument/2006/relationships/hyperlink" Target="http://it.wikipedia.org/wiki/GNU/Linux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sf.org/" TargetMode="External"/><Relationship Id="rId2" Type="http://schemas.openxmlformats.org/officeDocument/2006/relationships/hyperlink" Target="http://www.fsf.org/" TargetMode="External"/><Relationship Id="rId3" Type="http://schemas.openxmlformats.org/officeDocument/2006/relationships/hyperlink" Target="http://it.wikipedia.org/wiki/Microsoft_Windows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Book Antiqua"/>
              </a:rPr>
              <a:t>“</a:t>
            </a:r>
            <a:r>
              <a:rPr b="1" i="1" lang="en-US" sz="3400" spc="-1" strike="noStrike">
                <a:solidFill>
                  <a:srgbClr val="003366"/>
                </a:solidFill>
                <a:latin typeface="Book Antiqua"/>
              </a:rPr>
              <a:t>BEST PRACTICE IN TEMA DI SOSTENIBILITA’ AMBIENTALE IN ITALIA E NEL SALENTO”</a:t>
            </a:r>
            <a:endParaRPr b="1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71280" y="2923920"/>
            <a:ext cx="78483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it-IT" sz="3600" spc="-1" strike="noStrike">
                <a:solidFill>
                  <a:srgbClr val="003366"/>
                </a:solidFill>
                <a:latin typeface="Arial"/>
              </a:rPr>
              <a:t>Trashware,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3366"/>
                </a:solidFill>
                <a:latin typeface="Arial"/>
              </a:rPr>
              <a:t>l’informatizzazione sostenibil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99"/>
                </a:solidFill>
                <a:latin typeface="Arial"/>
              </a:rPr>
              <a:t>                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cura di Annalisa Greco 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ichela D’Alema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99"/>
                </a:solidFill>
                <a:latin typeface="Arial"/>
              </a:rPr>
              <a:t>                                                           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081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245520" y="6461280"/>
            <a:ext cx="46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arica abusiva di e-waste in G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I COMPUTER E LA SOCIETA’ DELL’INFORMAZI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…] Un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divario digita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inaccia di approfondire e consolidare le già esistenti differenze tra paesi sviluppati e in via di sviluppo e tra i diversi gruppi sociali che convivono  dentro una stessa nazione. […]Uno degli aspetti fondamentali della società dell'informazione, l'accesso, è uno degli ingredienti essenziali della democrazia e del buon governo. L'informazione e la conoscenza sono anche alla base degli sforzi per diffondere la tolleranza, la comprensione reciproca e il rispetto per la diversità". (Kofi Ann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 COMPUTER E L’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zione rifiuti (D.lgs. 152/0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042920" y="3357720"/>
            <a:ext cx="115272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3357720"/>
            <a:ext cx="107964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2492280"/>
            <a:ext cx="2087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76720" y="3357720"/>
            <a:ext cx="115272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357720"/>
            <a:ext cx="107964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2492280"/>
            <a:ext cx="2087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colos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7840" y="3952800"/>
            <a:ext cx="8357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rbani          Speciali      Pericolosi     Non pericol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chinari e le apparecchiature deteriorati ed obsole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fiuti speciali e pericolos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causa delle sosta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/o metalli pesanti che conteng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3640" cy="8631000"/>
            <a:chOff x="0" y="0"/>
            <a:chExt cx="9143640" cy="8631000"/>
          </a:xfrm>
        </p:grpSpPr>
        <p:sp>
          <p:nvSpPr>
            <p:cNvPr id="184" name=""/>
            <p:cNvSpPr/>
            <p:nvPr/>
          </p:nvSpPr>
          <p:spPr>
            <a:xfrm>
              <a:off x="0" y="198432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93040" y="8415360"/>
              <a:ext cx="20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80" y="4541400"/>
              <a:ext cx="17899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gno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133800" y="0"/>
              <a:ext cx="6009840" cy="50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793160" y="4541400"/>
              <a:ext cx="116784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0" y="4075920"/>
              <a:ext cx="17899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in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93160" y="4075920"/>
              <a:ext cx="116784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80" y="3610080"/>
              <a:ext cx="17899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licio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93160" y="3610080"/>
              <a:ext cx="116784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80" y="3144240"/>
              <a:ext cx="178992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alli prezio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93160" y="3144240"/>
              <a:ext cx="11678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0" y="2678400"/>
              <a:ext cx="17899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me*</a:t>
              </a:r>
              <a:r>
                <a:rPr b="1" lang="it-IT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93160" y="2678400"/>
              <a:ext cx="116784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80" y="2212920"/>
              <a:ext cx="17899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erie plast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3160" y="2212920"/>
              <a:ext cx="116784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80" y="1747440"/>
              <a:ext cx="17899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ombo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93160" y="1747440"/>
              <a:ext cx="116784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80" y="1281240"/>
              <a:ext cx="178992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r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3160" y="1281240"/>
              <a:ext cx="11678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80" y="815760"/>
              <a:ext cx="17899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umi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3160" y="815760"/>
              <a:ext cx="116784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80" y="0"/>
              <a:ext cx="178992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Mater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93160" y="0"/>
              <a:ext cx="116784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Efficienza riciclagg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80" y="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80" y="500688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0" y="0"/>
              <a:ext cx="0" cy="5006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80" y="81576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61360" y="0"/>
              <a:ext cx="0" cy="5006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80" y="128124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93160" y="0"/>
              <a:ext cx="0" cy="5006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80" y="174744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80" y="221292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0" y="267840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0" y="314424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80" y="361008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80" y="407592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80" y="4541400"/>
              <a:ext cx="2958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566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nte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icroelectronics and Computer Technology Corporation, Electronics Industry Environmental Roadmap, Austin (T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* Segnati con l’asterisco i metalli pesa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39640" y="1173240"/>
          <a:ext cx="8064720" cy="53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73240"/>
                    <a:ext cx="80647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zione rifiuti speciali dell’attività manifatturiera in Italia, 2005</a:t>
            </a:r>
            <a:br>
              <a:rPr sz="2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NTE APAT - RAPPORTO RIFIUTI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ifiuti di Apparecchiature Elettriche ed Elettronic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2560" y="1773360"/>
            <a:ext cx="9001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ll’</a:t>
            </a:r>
            <a:r>
              <a:rPr b="0" lang="en-US" sz="2100" spc="-1" strike="noStrike">
                <a:solidFill>
                  <a:srgbClr val="388288"/>
                </a:solidFill>
                <a:latin typeface="Arial"/>
              </a:rPr>
              <a:t>Unio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388288"/>
                </a:solidFill>
                <a:latin typeface="Arial"/>
              </a:rPr>
              <a:t>Europe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gni anno (Fonte: Commissione europea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000 milioni di tonnellate di rifiut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0 milioni di tonnellate di rifiuti pericolos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,5 milioni di tonnellate di RAEE di cui circa il 90% incenerito/portato in discarica senza essere trattat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4/20 kg pro-capite la produzione media di RAE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-5% tasso di crescita annuale RAE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100" spc="-1" strike="noStrike">
                <a:solidFill>
                  <a:srgbClr val="388288"/>
                </a:solidFill>
                <a:latin typeface="Arial"/>
              </a:rPr>
              <a:t>Itali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gni anno (Ministero dell’Ambiente e della Tutela del Territorio e del Mare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50.000 tonnellate di RAEE prodott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4 kg pro-capite prodott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,5 kg pro-capite smaltiti per un totale di 67.000 tonnell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OBIETTIVO UE: smaltimento di 4kg pro-capite entro il 31 dicembre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404640"/>
            <a:ext cx="1368360" cy="91440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Normativa di rif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280" y="1557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rettiva 2002/96/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irettiva WEE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(Waste of electric and electronic equipment), (modifiche 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rettiva 2003/108/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rettiva 2002/95/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irettiva RoH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striction of hazardous substanc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tal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l decreto di recepimento di tali Direttive è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creto Lgs. 151/2005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l 173/2006, Dl 300/2006, Dl 81/2007, Dl 248/2007 (cd Mille proroghe→ L.n° 31/2008) hanno prorogato i termini previsti nel D.lgs 151/200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.Lgs 152/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testo unico in materia ambienta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M. 25 settembre 2007 per l’Istituzione del Comitato di vigilanza e di controllo sulla gestione dei RAE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M. 185/2007, "Istituzione e modalità di funzionamento del registro nazionale dei soggetti obbligati al finanziamento dei sistemi di gestione dei rifiuti di apparecchiature elettriche ed elettroniche (RAEE)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M 08/04/2008 : Disciplina dei centri di raccolta dei rifiuti urbani raccolti in modo differenzi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’ESEMPIO DEL GOLEM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990000"/>
                </a:solidFill>
                <a:latin typeface="Arial"/>
              </a:rPr>
              <a:t>“Non c'è progresso se non è per tutt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OLE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Gruppo Operativo Linux Empoli) si dedica alla teorizzazione e all'effettiva realizzazione del Trashware.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l 2004 è un'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ssociazione di promozione soci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2001 ha rapporti co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Publiservi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'azienda consortile che gestisce acqua, energia e rifiuti urbani in molti comuni della Toscana centr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2002 al 2007 :82 PC a scuole in paesi del terzo mondo; 44 PC ad associazioni e scuole loc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gione Toscana ha assegnato al Golem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go Toscana ecoefficiente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932360" y="5157720"/>
            <a:ext cx="381636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TRASHWARE - HOWTO: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tre funzioni, tre s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145728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ggetto Collettore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ccolta dei computer disme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zienda consortile o municipalizzata che ritira i rifiuti ingombranti- Publiserviz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iferimento istituzionale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ezzato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all center, numero verde, dipendenti formati, mezzi di trasporto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ue ritiri diversi: i computer non recuperabili saranno ritirati come rifiuti, e i computer ancora buoni prenderanno la via del riutilizzo, senza diventare rifiuti.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i dismette dovrà pagare solo lo smaltimento dei computer /rifiu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1153800"/>
            <a:ext cx="849780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ggetto Riqualificatore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condizionamento     con Linux e Software Libero ad opera dei tecn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3) Soggetto Distributore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redistribuzione dei computer a chi può vantaggiosamente riutilizzar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lla base di criteri ben defin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nte che istituzionalmente si occupa di volontariato (CAVE 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ordinamento delle Associazioni di Volontariato Empolesi)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i conosce bene e coordina le associazioni di volontariato presenti sul territorio (ad es. coordinamento territoriale ARCI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760" y="26028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TRASHWARE - HOWTO: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tre funzioni, tre s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836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OSA E’ IL TRASHWARE?</a:t>
            </a:r>
            <a:br>
              <a:rPr sz="44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76800" y="4334040"/>
            <a:ext cx="3967200" cy="2523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mputr3"/>
          <p:cNvSpPr/>
          <p:nvPr/>
        </p:nvSpPr>
        <p:spPr>
          <a:xfrm>
            <a:off x="468360" y="5013360"/>
            <a:ext cx="1873080" cy="122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4941720"/>
            <a:ext cx="7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989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Con il termine Trashware si intende il riutilizz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roficuo di computer considerati obsole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ismessi ed altrimenti destinati al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maltimento. La parola nasce dall’unione d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ermini </a:t>
            </a:r>
            <a:r>
              <a:rPr b="1" i="1" lang="it-IT" sz="2800" spc="-1" strike="noStrike">
                <a:solidFill>
                  <a:srgbClr val="990000"/>
                </a:solidFill>
                <a:latin typeface="Arial"/>
              </a:rPr>
              <a:t>hardwar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it-IT" sz="2800" spc="-1" strike="noStrike">
                <a:solidFill>
                  <a:srgbClr val="990000"/>
                </a:solidFill>
                <a:latin typeface="Arial"/>
              </a:rPr>
              <a:t> trash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419640" y="4581360"/>
            <a:ext cx="1488960" cy="180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859280" y="5589720"/>
            <a:ext cx="1225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888000" cy="1025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248000" cy="19447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716000" y="1989000"/>
            <a:ext cx="40388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llo che non serve a me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uò servire ad alt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e che singolarmente non servono,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umulativamente possono avere val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menti che non servono più, spesso sono fatti di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mponenti singolarmente utilizzabi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la PA deve dare il buon esemp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l corretto trattamento e smaltimento dei rifiuti, evitando gli spre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13215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Modello di razionalizzazione degli strumenti informatici inutilizz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4508280"/>
            <a:ext cx="43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progetto nasce nell'anno 2006: elaborato dal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ircondario Empolese Valdelsa con undici Amministrazioni Comunali dell’are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5700600" cy="6335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50920" y="131040"/>
            <a:ext cx="331308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 delibera n°30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unta Esecutiva del Circo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 22 maggio 2007 si invitano con urgenza le Amministrazioni comunali del territorio a modificare le proprie procedure e adottare il progetto Trashf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RC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erto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ti, Onlus, privati,associazioni,scu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utomat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azione diretta tra domanda e offerta (applicazione we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.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Cessione, comodato, gratuito, prestito. No scopo di lu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260280"/>
            <a:ext cx="8424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1268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0000" y="242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580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220356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37162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26520" y="55166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P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80000" y="213372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242100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21080" y="1582560"/>
            <a:ext cx="241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SIONE COMU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CIRCO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20720" y="273384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 SC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6360" y="3500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ERMAZIONE COME CANALE UNICO PER I MATERIALI INFORMATICI NON UTILIZZATI DEL CIRCO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4520" y="508464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RTURA REG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93800" y="60228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RTURA AI PRIV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851280" y="5444640"/>
            <a:ext cx="1368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573408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400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50920" y="259920"/>
            <a:ext cx="47624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shware all’università del Sal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gegneria Senza Frontiere – Lec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llaborazione con l’associazione studentesca “La Sveglia”, “No Man is an Island” e l’ex-GISI (Gruppo Interdipartimentale di Supporto per l’Informatica) ha presentato un progetto di trashware approvato e finanziato dal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rso di Laurea in Ingegneria dell’Informazi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ll’estate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52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Obiettivi e final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gnare agli studenti il trashware e l’uso del software liber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più sostenibile delle risorse a disposiz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ire l’attività pratica degli studenti di ingegneria completandone la formaz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ondere tra gli studenti la cultura, l'attenzione, la sensibilità verso il tema dei rifiu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e l’opportunità agli studenti di partecipare in modo attivo ad azioni di cooperazione che mirano alla riduzione del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ivario digi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1268280"/>
            <a:ext cx="80643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0072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357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1840" y="1340280"/>
            <a:ext cx="284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rsi di base desti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li studenti del c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laurea ma non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10240" y="318240"/>
            <a:ext cx="42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1) Trashware -  il riuso consapev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1124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) Software li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6360" y="184356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3) Tecnologie a basso impatto ambientale: la necessità di tecnologie ecocompatibil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anni naturali causati dai RA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366120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sieme al Ce.S.I.L.D. (Centro Servizi Informatici Laboratori Didattici) individuate circa 60 macchine inutilizz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7640" y="4075560"/>
            <a:ext cx="276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est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boratorio Trash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/o l’edificio La Ste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32000" y="692280"/>
            <a:ext cx="144000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132000" y="141300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2000" y="1700280"/>
            <a:ext cx="1224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393372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80" y="3284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280" y="5084640"/>
            <a:ext cx="8785440" cy="158436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re ingegneri, professionisti e cittadini di cui la società ha biso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apevoli dei costi ambientali e sociali che le scelte quotidiane impli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Sviluppi fu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ZIONE: bandi di concorso appositamente emanati e destinati ad associazioni o singoli che fanno richiesta degli apparecch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na fase successiva gli studenti interessati potranno trasferire le loro conoscenze a studenti d’istituti superiore di formazione professionale (azione di orienta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1125360"/>
            <a:ext cx="82803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4076640"/>
            <a:ext cx="8353440" cy="2089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SF-Lecce mira a fare del laboratorio una tappa ob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r tutte le macchine dismesse dall’Atene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 tal proposito i problemi che l’associazione sta incontr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non dipendono dalla possibilità reale di ottenere tale autorizzazi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quanto più da questioni burocratiche e organizzative interne all’università.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raziam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8360" y="836280"/>
            <a:ext cx="82296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na Bellio, vicepresidente di Cultur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ta Greco -Ingegneria Senza Frontiere, Lec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tograf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wikiped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arpa.pugli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apat.gov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minambiente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pubblicaamministrazione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trashware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raecycle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registroaee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cdcraee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lennte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ww.ecoq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://isf-ital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://salug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ttp://rcu.empolese-valdels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990000"/>
                </a:solidFill>
                <a:latin typeface="Arial"/>
              </a:rPr>
              <a:t>Computer che altrimenti finirebbero</a:t>
            </a:r>
            <a:br>
              <a:rPr sz="4000"/>
            </a:br>
            <a:r>
              <a:rPr b="0" i="1" lang="it-IT" sz="4000" spc="-1" strike="noStrike">
                <a:solidFill>
                  <a:srgbClr val="990000"/>
                </a:solidFill>
                <a:latin typeface="Arial"/>
              </a:rPr>
              <a:t> in discaric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 fa Trashware recupera da privati, aziende ed enti pubblici macchine dismesse ma ancora in buono sta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ntrolla e le rimette  a pun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nsegna o le dona ad associazioni, enti  e persone che ne abbiano bisog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11280" y="260280"/>
            <a:ext cx="40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e integrante del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shw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è l’installazione di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ftware liber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sul sistema, ad esempio il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istema operativ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NU/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47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’ E’ IL SOFTWARE LIB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software che può essere utilizzato, copiato, studiato, modificato e ri-distribuito senza restrizioni(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Software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oundatio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particolare, ciò significa che il codice sorgente deve essere disponibi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essere libero da limitazioni è un concetto centrale, e il suo opposto è il software proprietario (come ad esempio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soft Window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 Winzip, Adobe Photoshop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8360" y="400500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hé il software libero?                  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32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software libero promuove lo scambio, la reciprocità, la condivisione e la cooperazione tra individ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619280" y="1341360"/>
            <a:ext cx="5857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gioni etiche e social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637000"/>
            <a:ext cx="8207280" cy="0"/>
          </a:xfrm>
          <a:prstGeom prst="line">
            <a:avLst/>
          </a:prstGeom>
          <a:ln w="38160">
            <a:solidFill>
              <a:srgbClr val="388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o Richard Stallman  fondatore della Free Software Foundation, un software per poter essere definito libero deve garantire quattro "libertà fondamentali":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060280"/>
            <a:ext cx="40384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tà di eseguire il programma per qualsiasi scopo ("libertà 0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2060280"/>
            <a:ext cx="40384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tà di studiare il programma e modificarlo ("libertà 1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tà di copiare il programma in modo da aiutare il prossimo ("libertà 2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tà di migliorare il programma e di distribuirne pubblicamente i miglioramenti ("libertà 3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hé il software lib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ndivisione del sapere impedisce ad un gruppo ristretto di persone di acquisire potere attraverso la conoscenz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iama a un modello democra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aggia i monopoli del software proprietario, il controllo del produttore sul consumatore e soprattutto scoraggia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l’obsolescenza indot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125360"/>
            <a:ext cx="817236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gioni politiche e ideologi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349360"/>
            <a:ext cx="8642160" cy="0"/>
          </a:xfrm>
          <a:prstGeom prst="line">
            <a:avLst/>
          </a:prstGeom>
          <a:ln w="38160">
            <a:solidFill>
              <a:srgbClr val="388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252720" y="-1717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hé il software lib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352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utilizzo del software libero ottimizza le prestazioni e le risorse del compu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non ha costi di licenz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ricerca dell'agenzia governativa britannica, l'Office of Government Commerce, informa che usare il sistema operativo Open Source Linux sui computer, significa ridurre l'e-waste (spazzatura elettron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907920"/>
            <a:ext cx="817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gioni tecniche ed economi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38160">
            <a:solidFill>
              <a:srgbClr val="388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5:39:49Z</dcterms:created>
  <dc:creator>mikela</dc:creator>
  <dc:description/>
  <dc:language>en-US</dc:language>
  <cp:lastModifiedBy>a</cp:lastModifiedBy>
  <dcterms:modified xsi:type="dcterms:W3CDTF">2008-11-07T11:59:52Z</dcterms:modified>
  <cp:revision>48</cp:revision>
  <dc:subject/>
  <dc:title>COSA è IL TRASHWARE?</dc:title>
</cp:coreProperties>
</file>